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7FD9-3710-4809-A6F0-B9CDB188E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5AAB-A983-4E23-BACA-20033ACB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C4CB-FC09-4EF9-8D96-D55ECAE1D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3081-2204-484F-88DC-011724860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A2A0-8A12-4519-9F9B-AC3E7CB8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3EBF-E7BF-40C9-B899-2F65FC54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CD27-DA5E-4E1B-A8A6-0CEB1FC7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3A15-C2B7-45A8-978C-A98E1CC8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7C84-AF73-48FF-A567-4CBF1F85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E9F1-EBA7-4E4F-AF96-6A430CBC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A6BE-D2E4-4604-9E38-88BBC416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0024-6676-47B6-AEC4-C470F66C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4C82-6053-4E13-A581-EFE6F8F0DDA4}" type="slidenum">
              <a:rPr b="0" lang="hu-H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 megbízhatóság szerepe a terméktervezésbe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egbízhatóság fogalm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annak a valószínűsége, hogy egy elem vagy rendszer teljesíti-e a feladatát élettartama adott időpontjáig (Neumann Jáno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a termék azon képessége, hogy meghatározott feltételek mellett előírt funkcióit teljesíti-e, miközben előírásos állapotú mar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Kapcsolatuk szer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1 Független (elsődleg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 Függő (másodlago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Üzemeltetés szer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1 Korai meghibásodás (a bejáratás szakaszába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2 Üzemi meghibásodás (üzemeltetési szakaszba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3 Elhasználódás (a tönkremenetel – öregedés szakaszába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Mérték szer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1 Részeleges meghibásodás (egyes funkció elvesztése, hatékonyság csökkené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2 Teljes meghibásodás (összes funkció elvesztése, működésképtelensé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Folyamata szer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1 Váratlan meghibásodá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2 Degradációs meghibásodás (fokozatos, figyelemmel kísérhető, pl. rezgések, zaj fokozódása, stb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váratlan és teljes meghibásodásokat katasztrofális meghibásodásnak nevezzü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véletlen esemény értéke nem állandó, esetről esetre más lehet, de meghatározható, hogy az értékük milyen valószínűséggel esik a megadott határok köz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zeket a véletlen eseményeket leíró mennyiségeket valószínűségi változóknak nevezzük, és görög betűkkel jelöljük. (pl. ξ,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ζ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ή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valószínűségi változók aktuális értékeit pedig latin betűkkel jelöljük (pl. x,y,z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y ξ valószínűségi változó jellemezhető egy F(x) eloszlásfüggvénnyel, amely megadja annak a valószínűségét, hogy ξ&lt;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(ξ&lt;x) = F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táresete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(-∞)=0 (lehetetle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(+∞)=1 (bizto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9952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 ξ csak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…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zkrét értékeket vehet fel, az eloszlásfüggvény lépcsőzetes, az eloszlás diszkré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924360" y="3645000"/>
            <a:ext cx="403848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Folytonosnak nevezzük a valószínűségi változót, ha eloszlásfüggvénye előállítható egy másik függvény integráljakén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F(x)= ∫</a:t>
            </a:r>
            <a:r>
              <a:rPr b="0" lang="hu-HU" sz="3200" spc="-1" strike="noStrike" baseline="38000">
                <a:solidFill>
                  <a:srgbClr val="ffffff"/>
                </a:solidFill>
                <a:latin typeface="Arial"/>
              </a:rPr>
              <a:t>x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Arial"/>
              </a:rPr>
              <a:t>-∞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f(x)d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7151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z f(x) függvény az eloszlás un. sűrűségfüggvénye. Pl.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56000" y="2924280"/>
            <a:ext cx="403848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gbízhatóság tárgykö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gyan lehet ismert megbízhatóságú elemekből felépített rendszer megbízhatóságát meghatározni, számszerűen értékeln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het-e ugyanezen elemek más csoportosításával a korábbinál megbízhatóbb rendszert teremteni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het-e adott feladatra optimális megbízhatóságú rendszert teremteni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het-e közbenső karbantartási műveletekkel a megbízhatóságot fokozni, mi ennek a leggazdaságosabb módja, időpontja, st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z előző sűrűségfüggvényhez tartozó eloszlásfüggvé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195640" y="2997360"/>
            <a:ext cx="403848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70716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sűrűségfüggvény nulladrendű általános momentuma a sűrűségfüggvény görbe alatti területét jelenti, ez mindig 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z a normálás feltéte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32000" y="3860640"/>
            <a:ext cx="5616360" cy="11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űrűségfüggvény elsőrendű általános momentuma, a súlypontjának koordinátája a várható érté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16000" y="3645000"/>
            <a:ext cx="6696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z n-ed rendű általános moment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42920" y="2997360"/>
            <a:ext cx="67690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21044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eltérés: x-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centrális momentumo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42920" y="3429000"/>
            <a:ext cx="7489800" cy="244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987640" y="170028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vezetes a másodrendű centrális momentu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87280" y="2852640"/>
            <a:ext cx="6696360" cy="1800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960200" y="4168800"/>
            <a:ext cx="14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diszperzi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négyzetes középeltérés, vagy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δ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-szórá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δ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=√D(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ξ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59280" y="285264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Meghibásodási jellemzők, megbízhatósági kritériumok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0675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eghibásodások eloszlás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050920" y="2565360"/>
            <a:ext cx="4038840" cy="1098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050920" y="3716280"/>
            <a:ext cx="403380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eghibásodási jellemzők, megbízhatósági kritériumok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4911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eghibásodások gyakoriság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835280" y="2565360"/>
            <a:ext cx="5113080" cy="1150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835280" y="3716280"/>
            <a:ext cx="511308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eghibásodási jellemzők, megbízhatósági kritériumok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hibamentes működés valószínűsége (megbízhatóság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68360" y="2781360"/>
            <a:ext cx="4967640" cy="8348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268360" y="3789360"/>
            <a:ext cx="4967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egbízhatóság elmélet a valószínűség elmélet alkalmazása technikai feladatokra, módszere a matematikai statiszti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eghibásodási jellemzők, megbízhatósági kritériumok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55280" y="1484280"/>
            <a:ext cx="7777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eghibásodási tényező (meghibásodási ráta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2637000"/>
            <a:ext cx="4038840" cy="1295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211640" y="2637000"/>
            <a:ext cx="49323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eghibásodási jellemzők, megbízhatósági kritériumok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Átlagos tényleges működés ide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várható érték, elsőrendű általános momentum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11280" y="3357720"/>
            <a:ext cx="76327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eghibásodási jellemzők, megbízhatósági kritériumok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868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ásodrendű általános moment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4360" y="2781360"/>
            <a:ext cx="7859520" cy="15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eghibásodási jellemzők, megbízhatósági kritériumok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7788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ásodrendű centrális moment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diszperzió, szórásnégyze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11280" y="3429000"/>
            <a:ext cx="763272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eghibásodási jellemzők, megbízhatósági kritériumok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δ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szórá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δ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=√</a:t>
            </a:r>
            <a:r>
              <a:rPr b="0" lang="el-GR" sz="3200" spc="-1" strike="noStrike">
                <a:solidFill>
                  <a:srgbClr val="ffffff"/>
                </a:solidFill>
                <a:latin typeface="MS Mincho"/>
                <a:ea typeface="MS Mincho"/>
              </a:rPr>
              <a:t>μ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Century"/>
              </a:rPr>
              <a:t>2</a:t>
            </a:r>
            <a:r>
              <a:rPr b="0" lang="hu-HU" sz="3200" spc="-1" strike="noStrike">
                <a:solidFill>
                  <a:srgbClr val="ffffff"/>
                </a:solidFill>
                <a:latin typeface="Century"/>
              </a:rPr>
              <a:t>= D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285264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eghibásodási jellemzők, megbízhatósági kritériumok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Century"/>
              </a:rPr>
              <a:t>γ</a:t>
            </a:r>
            <a:r>
              <a:rPr b="0" lang="hu-HU" sz="3200" spc="-1" strike="noStrike">
                <a:solidFill>
                  <a:srgbClr val="ffffff"/>
                </a:solidFill>
                <a:latin typeface="Century"/>
              </a:rPr>
              <a:t>-kvantil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entury"/>
              </a:rPr>
              <a:t>t</a:t>
            </a:r>
            <a:r>
              <a:rPr b="0" lang="el-GR" sz="3200" spc="-1" strike="noStrike" baseline="-18000">
                <a:solidFill>
                  <a:srgbClr val="ffffff"/>
                </a:solidFill>
                <a:latin typeface="Century"/>
              </a:rPr>
              <a:t>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entury"/>
              </a:rPr>
              <a:t>R(t</a:t>
            </a:r>
            <a:r>
              <a:rPr b="0" lang="el-GR" sz="3200" spc="-1" strike="noStrike" baseline="-18000">
                <a:solidFill>
                  <a:srgbClr val="ffffff"/>
                </a:solidFill>
                <a:latin typeface="Century"/>
              </a:rPr>
              <a:t>γ</a:t>
            </a:r>
            <a:r>
              <a:rPr b="0" lang="hu-HU" sz="3200" spc="-1" strike="noStrike">
                <a:solidFill>
                  <a:srgbClr val="ffffff"/>
                </a:solidFill>
                <a:latin typeface="Century"/>
              </a:rPr>
              <a:t>)= </a:t>
            </a:r>
            <a:r>
              <a:rPr b="0" lang="el-GR" sz="3200" spc="-1" strike="noStrike">
                <a:solidFill>
                  <a:srgbClr val="ffffff"/>
                </a:solidFill>
                <a:latin typeface="Century"/>
              </a:rPr>
              <a:t>γ</a:t>
            </a:r>
            <a:r>
              <a:rPr b="0" lang="en-US" sz="3200" spc="-1" strike="noStrike">
                <a:solidFill>
                  <a:srgbClr val="ffffff"/>
                </a:solidFill>
                <a:latin typeface="Century"/>
              </a:rPr>
              <a:t>[</a:t>
            </a:r>
            <a:r>
              <a:rPr b="0" lang="hu-HU" sz="3200" spc="-1" strike="noStrike">
                <a:solidFill>
                  <a:srgbClr val="ffffff"/>
                </a:solidFill>
                <a:latin typeface="Century"/>
              </a:rPr>
              <a:t>%</a:t>
            </a:r>
            <a:r>
              <a:rPr b="0" lang="en-US" sz="3200" spc="-1" strike="noStrike">
                <a:solidFill>
                  <a:srgbClr val="ffffff"/>
                </a:solidFill>
                <a:latin typeface="Century"/>
              </a:rPr>
              <a:t>]</a:t>
            </a:r>
            <a:r>
              <a:rPr b="0" lang="hu-HU" sz="3200" spc="-1" strike="noStrike">
                <a:solidFill>
                  <a:srgbClr val="ffffff"/>
                </a:solidFill>
                <a:latin typeface="Century"/>
              </a:rPr>
              <a:t>/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lemek megbízhatósága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m: további részekre történő felbontása a megbízhatóság szempontjából már nem lehetsé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968560" y="63972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22760" y="169560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m felújíthat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55640" y="1819440"/>
            <a:ext cx="153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lújíthat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71640" y="292428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zonnal felújíthat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2000" y="285264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zámottevő felújítási idejű e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74880" y="364500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lújítási függvé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74880" y="4365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lújítási intenzitá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78880" y="508464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ckáz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03240" y="566100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adék élettart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12000" y="3860640"/>
            <a:ext cx="21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észenléti tényez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40360" y="4581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cionárius készenléti tényez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268000" y="1052640"/>
            <a:ext cx="863640" cy="647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92360" y="1052640"/>
            <a:ext cx="1150920" cy="647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4140360" y="2276640"/>
            <a:ext cx="863280" cy="647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435640" y="2205000"/>
            <a:ext cx="1150920" cy="647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328464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80000" y="40766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80000" y="472428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80000" y="537372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93080" y="350028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93080" y="429264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093080" y="522936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564000" y="5013360"/>
            <a:ext cx="1008000" cy="93672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55800" y="71280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ndszerek megbízhatóság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89440" y="162864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348000" y="1628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árhuzam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227640" y="17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g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" y="242100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gy elem hibája az egész rendszer meghibásodását jelen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00360" y="2349360"/>
            <a:ext cx="30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párhuzamos rends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ghibásodása akkor következik be, ha minden eleme meghibásodo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59280" y="3933720"/>
            <a:ext cx="230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legtartalékos redunda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passzív rezerválá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4581360"/>
            <a:ext cx="2160360" cy="649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4797360"/>
            <a:ext cx="287280" cy="217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4797360"/>
            <a:ext cx="287640" cy="217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58920" y="4797360"/>
            <a:ext cx="287280" cy="217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79640" y="4797360"/>
            <a:ext cx="287280" cy="217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50560" y="486900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4360" y="4869000"/>
            <a:ext cx="142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16000" y="486900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268360" y="4869000"/>
            <a:ext cx="35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19280" y="5013360"/>
            <a:ext cx="28872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47640" y="4869000"/>
            <a:ext cx="7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1907640" y="4869000"/>
            <a:ext cx="7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8240" y="5659560"/>
            <a:ext cx="212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hu-HU" sz="9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(t) = R</a:t>
            </a: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(t)*R</a:t>
            </a: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(t)*…R</a:t>
            </a: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(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96720" y="53737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68360" y="5229360"/>
            <a:ext cx="7164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24360" y="5157720"/>
            <a:ext cx="287280" cy="217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24360" y="5589720"/>
            <a:ext cx="287280" cy="217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99" idx="1"/>
            <a:endCxn id="200" idx="1"/>
          </p:cNvCxnSpPr>
          <p:nvPr/>
        </p:nvCxnSpPr>
        <p:spPr>
          <a:xfrm flipH="1" flipV="1" rot="10800000">
            <a:off x="3924000" y="5266800"/>
            <a:ext cx="2160" cy="43272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02" name=""/>
          <p:cNvCxnSpPr>
            <a:stCxn id="199" idx="3"/>
            <a:endCxn id="200" idx="3"/>
          </p:cNvCxnSpPr>
          <p:nvPr/>
        </p:nvCxnSpPr>
        <p:spPr>
          <a:xfrm>
            <a:off x="4211640" y="5267160"/>
            <a:ext cx="2160" cy="432720"/>
          </a:xfrm>
          <a:prstGeom prst="bentConnector3">
            <a:avLst>
              <a:gd name="adj1" fmla="val 14400000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203" name=""/>
          <p:cNvSpPr/>
          <p:nvPr/>
        </p:nvSpPr>
        <p:spPr>
          <a:xfrm flipH="1">
            <a:off x="3347640" y="54450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27640" y="54450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5950080"/>
            <a:ext cx="7128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81640" y="5969160"/>
            <a:ext cx="55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p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32720" y="5157720"/>
            <a:ext cx="1008000" cy="93672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093080" y="5302080"/>
            <a:ext cx="287280" cy="2178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093080" y="5734080"/>
            <a:ext cx="287280" cy="217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0" name=""/>
          <p:cNvCxnSpPr>
            <a:stCxn id="208" idx="3"/>
            <a:endCxn id="209" idx="3"/>
          </p:cNvCxnSpPr>
          <p:nvPr/>
        </p:nvCxnSpPr>
        <p:spPr>
          <a:xfrm>
            <a:off x="7380360" y="5411520"/>
            <a:ext cx="2160" cy="432360"/>
          </a:xfrm>
          <a:prstGeom prst="bentConnector3">
            <a:avLst>
              <a:gd name="adj1" fmla="val 14400000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211" name=""/>
          <p:cNvSpPr/>
          <p:nvPr/>
        </p:nvSpPr>
        <p:spPr>
          <a:xfrm flipH="1">
            <a:off x="6516360" y="558972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596360" y="558972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740720" y="6094440"/>
            <a:ext cx="7128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49280" y="6113520"/>
            <a:ext cx="5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6877080" y="544500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77080" y="544500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77080" y="558972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77080" y="580536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948360" y="5734080"/>
            <a:ext cx="7164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019640" y="5805360"/>
            <a:ext cx="7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1763280" y="1125360"/>
            <a:ext cx="2521080" cy="57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84720" y="1125360"/>
            <a:ext cx="7128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284720" y="1125360"/>
            <a:ext cx="2303280" cy="57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47640" y="198900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140360" y="1989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40360" y="350028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0" y="400536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degtartalékos redunda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aktív rezerválá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356000" y="3500280"/>
            <a:ext cx="216072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332000" y="357336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71640" y="53006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067280" y="479736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020000" y="486900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732720" y="1989000"/>
            <a:ext cx="215640" cy="2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714000" y="222408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 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apfogalm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emény: meghatározott feltételek mellet megvalósított kísérlet mennyiségi vagy minőségi eredménye. (pl. valamilyen szilárdsági jellemző meghatározott tartományba esi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ztos esemény: ha elkerülhetetlenül bekövetkezik. (pl. ha valaki élve születik, elkerülhetetlenül meg is h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hetetlen esemény: ha bekövetkezése kizárt. (pl. egy egyetlen fekete golyót tartalmazó halmazból kettőt kihúzn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zükségszerűség: biztos és lehetetlen események halmaz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életlen esemény: mely adott feltételkomplexum mellett be is következhet, és nem 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életlen: a szükségszerűség velejárója, minden, ami nem szükségszerű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ószínűség elmélet: a véletlen esemény objektív bekövetkezésének valószínűségével foglalkozi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ematikai statisztika: a véletlen események tömeges megfigyelése eredményeképpen kapott adatok feldolgozását szolgál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valószínűség-elmélet módszere a matematikai statiszti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59280" y="404640"/>
            <a:ext cx="2808000" cy="648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rmé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1700280"/>
            <a:ext cx="2448000" cy="6490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ő elem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35640" y="1700280"/>
            <a:ext cx="2232000" cy="6490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árulékos elem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2852640"/>
            <a:ext cx="1728720" cy="649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űködőkép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56000" y="2852640"/>
            <a:ext cx="1871640" cy="649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űködésképte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32360" y="2852640"/>
            <a:ext cx="1728720" cy="649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érü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164360" y="2852640"/>
            <a:ext cx="1728720" cy="649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őírá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47640" y="4292640"/>
            <a:ext cx="2448000" cy="6490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ghibásodá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59280" y="4292640"/>
            <a:ext cx="2448000" cy="6490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érülé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32000" y="5589720"/>
            <a:ext cx="3095640" cy="6490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őírásos állapot elveszté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619280" y="1052640"/>
            <a:ext cx="2665440" cy="57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00720" y="1052640"/>
            <a:ext cx="2158920" cy="57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115640" y="2349360"/>
            <a:ext cx="43164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27280" y="2349360"/>
            <a:ext cx="50472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940360" y="2349360"/>
            <a:ext cx="43200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508360" y="5084640"/>
            <a:ext cx="43164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236000" y="2349360"/>
            <a:ext cx="50472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48000" y="5013360"/>
            <a:ext cx="50472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03640" y="350028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24360" y="350028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 meghibásodások osztályozása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Forrásuk szer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1 Tervezési meghibásodás (~75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2 Gyártási meghibásodás (~16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3 Üzemeltetési meghibásodás (~9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 meghibásodások osztályozása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Megjelenés szer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1 Szisztematik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2 Véletl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2:51:44Z</dcterms:created>
  <dc:creator>mad</dc:creator>
  <dc:description/>
  <dc:language>en-US</dc:language>
  <cp:lastModifiedBy>DömeDee</cp:lastModifiedBy>
  <dcterms:modified xsi:type="dcterms:W3CDTF">2007-03-27T10:14:08Z</dcterms:modified>
  <cp:revision>48</cp:revision>
  <dc:subject/>
  <dc:title>A megbízhatóság szerepe a terméktervezésben</dc:title>
</cp:coreProperties>
</file>