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509-21E6-43A7-B29F-4BA63CF0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AE0-9AAC-4680-A3D0-FB88F06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D2A-1C03-493E-B679-F679C66F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186-E41D-4789-AA88-83C2B761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E335-E96E-4A87-A5CC-80A1ABF1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8F4B-AAA3-4A7A-BA77-0893CE5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937-A533-4FE6-BBB9-35163ED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F0C-4EA8-42B2-8662-8DD533E6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A0C-573E-4DCA-9EE0-9876B51A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52E-838A-4750-92D3-0CC0A44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C48-2018-4740-B934-9AFFEEA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0CA-DF60-49E4-9417-BC9E89C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F607-BA52-499B-A85C-373702F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A83E-28A9-4831-9F45-236E54F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139-355F-4201-9AAE-8536DB6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3294-71E8-4779-AC47-55911E7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B78B-59D8-4FD1-AEFC-5C5AD7AE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2B-552C-4251-B9AC-B137D1B8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C64-22F7-480D-A08F-434A1CA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8FA-D78F-4FD7-A774-70A6B11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ED6-C1E2-4CB4-9FEF-B007E468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09D-EA67-47F4-BBB5-02253B5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87F-1471-4713-839D-2CFB7CD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F29-D3B3-4C78-B29D-BB9FFD3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95360" y="992160"/>
            <a:ext cx="8832240" cy="1599840"/>
            <a:chOff x="495360" y="992160"/>
            <a:chExt cx="8832240" cy="1599840"/>
          </a:xfrm>
        </p:grpSpPr>
        <p:sp>
          <p:nvSpPr>
            <p:cNvPr id="1" name=""/>
            <p:cNvSpPr/>
            <p:nvPr/>
          </p:nvSpPr>
          <p:spPr>
            <a:xfrm>
              <a:off x="3126960" y="992160"/>
              <a:ext cx="6200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6320" y="1157400"/>
              <a:ext cx="620424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02040" y="1378080"/>
              <a:ext cx="6199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95360" y="17082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B1C-F387-4C6F-98CD-C85C52A95A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95360" y="2363760"/>
            <a:ext cx="8832240" cy="1599840"/>
            <a:chOff x="495360" y="2363760"/>
            <a:chExt cx="8832240" cy="1599840"/>
          </a:xfrm>
        </p:grpSpPr>
        <p:sp>
          <p:nvSpPr>
            <p:cNvPr id="47" name=""/>
            <p:cNvSpPr/>
            <p:nvPr/>
          </p:nvSpPr>
          <p:spPr>
            <a:xfrm>
              <a:off x="3126960" y="2363760"/>
              <a:ext cx="6200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6320" y="2529000"/>
              <a:ext cx="620424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2040" y="2749680"/>
              <a:ext cx="6199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60" y="3079800"/>
              <a:ext cx="857844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8FAE-C1E8-443B-923D-EA655F9C3B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minőség szerepe a termékfejlesztésb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ékfejlesztés alapj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-200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880" y="5661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Miskolci Egyet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Gépelemek Tanszé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6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6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i jellemző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99"/>
                </a:solidFill>
                <a:latin typeface="Times New Roman"/>
              </a:rPr>
              <a:t>Minőségi jellemző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 az elemi építőkocka, amelyből a minőség kialaku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04812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nden oly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mére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kémiai tulajdonsá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érzékelhető tulajdonság (íz, szag, érzés, ha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ly a felhasználásra való alkalmassággal összefüg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181480"/>
            <a:ext cx="8153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gyéb jellemzők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élettarta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megbízhatóság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karbantarthatósá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7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konstrukció minősége és a kivitelezés minősége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A konstrukció minősé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87692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A kivitelezés minősé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ermék mennyire hűen követi a tervezési előírások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876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z azonos tárgyú előírások eltérései a konstrukció minőségének eltérését jelentik.</a:t>
            </a:r>
            <a:br>
              <a:rPr sz="2400"/>
            </a:b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   A BMW és Seat gépkocsik a konstrukciós megoldás szempontjából különböznek, eltérő a konstrukciós minőségük. Az eltérés a különböző tervezési előírásokban jelentkezi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8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Minőség, ár és szállítási határidő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05120" y="2209680"/>
            <a:ext cx="2560320" cy="1392120"/>
            <a:chOff x="1905120" y="2209680"/>
            <a:chExt cx="2560320" cy="1392120"/>
          </a:xfrm>
        </p:grpSpPr>
        <p:sp>
          <p:nvSpPr>
            <p:cNvPr id="138" name=""/>
            <p:cNvSpPr/>
            <p:nvPr/>
          </p:nvSpPr>
          <p:spPr>
            <a:xfrm>
              <a:off x="1905120" y="2209680"/>
              <a:ext cx="2560320" cy="139212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96200" y="2395080"/>
              <a:ext cx="237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 kivitelezés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minőség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88040" y="2209680"/>
            <a:ext cx="2560320" cy="1392120"/>
            <a:chOff x="5288040" y="2209680"/>
            <a:chExt cx="2560320" cy="1392120"/>
          </a:xfrm>
        </p:grpSpPr>
        <p:sp>
          <p:nvSpPr>
            <p:cNvPr id="141" name=""/>
            <p:cNvSpPr/>
            <p:nvPr/>
          </p:nvSpPr>
          <p:spPr>
            <a:xfrm>
              <a:off x="5288040" y="2209680"/>
              <a:ext cx="2560320" cy="139212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8040" y="2395080"/>
              <a:ext cx="256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 konstrukció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minőség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459240" y="3581280"/>
            <a:ext cx="2925720" cy="2895840"/>
            <a:chOff x="3459240" y="3581280"/>
            <a:chExt cx="2925720" cy="2895840"/>
          </a:xfrm>
        </p:grpSpPr>
        <p:sp>
          <p:nvSpPr>
            <p:cNvPr id="144" name=""/>
            <p:cNvSpPr/>
            <p:nvPr/>
          </p:nvSpPr>
          <p:spPr>
            <a:xfrm>
              <a:off x="3459240" y="5735520"/>
              <a:ext cx="2925720" cy="7416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33920" y="582768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ptimalizálás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7600" y="3581280"/>
              <a:ext cx="365040" cy="2133720"/>
            </a:xfrm>
            <a:prstGeom prst="downArrow">
              <a:avLst>
                <a:gd name="adj1" fmla="val 50000"/>
                <a:gd name="adj2" fmla="val 14612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5600" y="3602160"/>
              <a:ext cx="366840" cy="2133360"/>
            </a:xfrm>
            <a:prstGeom prst="downArrow">
              <a:avLst>
                <a:gd name="adj1" fmla="val 50000"/>
                <a:gd name="adj2" fmla="val 14538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3657600"/>
            <a:ext cx="1555920" cy="1947960"/>
            <a:chOff x="4114800" y="3657600"/>
            <a:chExt cx="1555920" cy="1947960"/>
          </a:xfrm>
        </p:grpSpPr>
        <p:sp>
          <p:nvSpPr>
            <p:cNvPr id="149" name=""/>
            <p:cNvSpPr/>
            <p:nvPr/>
          </p:nvSpPr>
          <p:spPr>
            <a:xfrm>
              <a:off x="4114800" y="3657600"/>
              <a:ext cx="1555920" cy="1947960"/>
            </a:xfrm>
            <a:prstGeom prst="flowChartMagneticDisk">
              <a:avLst/>
            </a:prstGeom>
            <a:solidFill>
              <a:srgbClr val="cc00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320" y="4398840"/>
              <a:ext cx="1192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ffffcc"/>
                  </a:solidFill>
                  <a:latin typeface="Times New Roman"/>
                </a:rPr>
                <a:t>ÁR</a:t>
              </a:r>
              <a:endParaRPr b="0" lang="en-US" sz="5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9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javítása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514600"/>
            <a:ext cx="8077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ff99"/>
                </a:solidFill>
                <a:latin typeface="Times New Roman"/>
              </a:rPr>
              <a:t>A FEJLŐDÉS MOTORJA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191120"/>
            <a:ext cx="96775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egnagyobb részben a konstrukció minőségét érinti,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ugyanakkor javul az előírás szerinti kivitelezés minősége i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4880" y="380520"/>
            <a:ext cx="957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2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 minőség gazdasági vonatkozásai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975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1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és az alapvető üzleti szempontok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2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költsége és a minőség értéke közötti egyensúl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3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konstrukció minőségének gazdaságosság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4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versenyképes minőség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5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termék konstrukciója mint a minőségi verseny egyik eszköz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2.6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költségei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753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1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és az alapvető üzleti szempontok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9448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gazdasági versenyben az „értékesítési lehetőség” a verseny egyik tényezőj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vállalatok úgy versenyeznek, hogy a fogyasztónak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jánlana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38862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jobb minőséget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kedvezőbb árat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kedvezőbb szállítási határidő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2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költsége és a minőség értéke közötti egyensúly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32767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bb minőséggel a piac nagyobb részét uralhatja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gasabb árakat érhet e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gyobb százalékban tehet sikeres ajánlato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05120"/>
            <a:ext cx="9448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inőség a vállalat gazdasági életét befolyásolj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5909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- Hatást gyakorol a jövedelem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5720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- Hatást gyakorol a költségek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5257800"/>
            <a:ext cx="842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k pénzbe kerül a minőséget megteremteni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minőséget, ill. gyártást irányítani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zetni a jelentkező hibáké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3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konstrukció minőségének gazdaságossága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601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jobb minőség gyakran nagyobb költségeket jelent, de egyúttal nagyobb értéket is hordoz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őfordul azonban, hogy egyidejűleg lehet egy konstrukciót jobbá és olcsóbbá tenn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952880"/>
            <a:ext cx="6629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kevesebb alkatrész,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kevésbé költséges anyagok felhasználása,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kevesebb megmunkálási művelet alkalmazás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4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versenyképes minőség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514600"/>
            <a:ext cx="6400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Felhasználó-szerviz feltétele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Piaci minőséget az ár megállapításáho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Fogyasztó igénye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905120"/>
            <a:ext cx="8763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versenyképes minőséghez ismerni kell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733920"/>
            <a:ext cx="891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Ki kell alakítani a minőség jó hírnevé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419720"/>
            <a:ext cx="9753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Garantálni kell a termék minőségét csökkentve a veszteségeke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510552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Hirdetni kell a termékek kiváló tulajdonságai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5791320"/>
            <a:ext cx="9753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El kell kerülni az ismétlődő hibákat, melyek a termék jó hírét rontaná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5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termék konstrukciója mint a minőségi verseny egyik eszköze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905120"/>
            <a:ext cx="9753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gyártmányszerkesztő két problémával kerül szemb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59092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Hogy a felhasználó rendszeri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ájékozat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648320"/>
            <a:ext cx="6477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Hogy a felhasználó rendszeri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ájékozo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429000"/>
            <a:ext cx="6400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zokra a tulajdonságokra helyezi a hangsúlyt, </a:t>
            </a:r>
            <a:br>
              <a:rPr sz="2600"/>
            </a:b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elyek segítség nélkül is érzékelhetők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5562720"/>
            <a:ext cx="6400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zokra a tulajdonságokra helyezi a hangsúlyt, </a:t>
            </a:r>
            <a:br>
              <a:rPr sz="2600"/>
            </a:b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elyek a funkcionális hasznosságon vannak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47040" y="2997360"/>
            <a:ext cx="2590200" cy="1921320"/>
            <a:chOff x="6647040" y="2997360"/>
            <a:chExt cx="2590200" cy="1921320"/>
          </a:xfrm>
        </p:grpSpPr>
        <p:sp>
          <p:nvSpPr>
            <p:cNvPr id="184" name=""/>
            <p:cNvSpPr/>
            <p:nvPr/>
          </p:nvSpPr>
          <p:spPr>
            <a:xfrm>
              <a:off x="7332480" y="2997360"/>
              <a:ext cx="190476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Szí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la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Í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Illa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ényezé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040" y="3607200"/>
              <a:ext cx="533160" cy="380880"/>
            </a:xfrm>
            <a:prstGeom prst="rightArrow">
              <a:avLst>
                <a:gd name="adj1" fmla="val 50000"/>
                <a:gd name="adj2" fmla="val 34995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629400" y="5105520"/>
            <a:ext cx="3276720" cy="1555560"/>
            <a:chOff x="6629400" y="5105520"/>
            <a:chExt cx="3276720" cy="1555560"/>
          </a:xfrm>
        </p:grpSpPr>
        <p:sp>
          <p:nvSpPr>
            <p:cNvPr id="187" name=""/>
            <p:cNvSpPr/>
            <p:nvPr/>
          </p:nvSpPr>
          <p:spPr>
            <a:xfrm>
              <a:off x="7315200" y="5105520"/>
              <a:ext cx="259092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ogyasztá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ibaarán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sereszabatossá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buClr>
                  <a:srgbClr val="ffcc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Tűzállósá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9400" y="579132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őadásvázl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9080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Bevezeté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1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Alapfogalmak, meghatározáso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A minőség gazdasági vonatkozásai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Fogyasztói kapcsolato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4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ISO - A nemzetközi szabványügyi szervez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5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Tanúsítá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Times New Roman"/>
              </a:rPr>
              <a:t>6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Összegzé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2.6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költségei 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4600" y="1981080"/>
            <a:ext cx="2158920" cy="1079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ackutat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7640" y="1981080"/>
            <a:ext cx="2159280" cy="1079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tatá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s fejleszt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41800" y="1981080"/>
            <a:ext cx="2159280" cy="10796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strukció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vezé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02600" y="1981080"/>
            <a:ext cx="2158920" cy="107964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yártás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" y="3276720"/>
            <a:ext cx="2158920" cy="10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yamato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ntossá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46840" y="3251160"/>
            <a:ext cx="2159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emélyze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495680"/>
            <a:ext cx="215928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4495680"/>
            <a:ext cx="2158920" cy="1079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éré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enőrz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5638680"/>
            <a:ext cx="2158920" cy="1079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bákból eredő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zteség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5638680"/>
            <a:ext cx="2158920" cy="1079640"/>
          </a:xfrm>
          <a:prstGeom prst="ellipse">
            <a:avLst/>
          </a:prstGeom>
          <a:solidFill>
            <a:srgbClr val="b163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ájékoztatás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yamatokró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638680"/>
            <a:ext cx="2158920" cy="1079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bá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előzé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3429000"/>
            <a:ext cx="3276360" cy="1752480"/>
            <a:chOff x="3352680" y="3429000"/>
            <a:chExt cx="3276360" cy="1752480"/>
          </a:xfrm>
        </p:grpSpPr>
        <p:sp>
          <p:nvSpPr>
            <p:cNvPr id="203" name=""/>
            <p:cNvSpPr/>
            <p:nvPr/>
          </p:nvSpPr>
          <p:spPr>
            <a:xfrm>
              <a:off x="3352680" y="3429000"/>
              <a:ext cx="3276360" cy="1752480"/>
            </a:xfrm>
            <a:prstGeom prst="flowChartMagneticDisk">
              <a:avLst/>
            </a:prstGeom>
            <a:solidFill>
              <a:srgbClr val="ff0000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560" y="4038480"/>
              <a:ext cx="2514600" cy="100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A MINŐSÉG KÖLTSÉGEI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380520"/>
            <a:ext cx="957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3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Fogyasztói kapcsolato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95252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3.1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fogyasztó szempontja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3.2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termék áttervezése a felhasználótól kapott információ alapjá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3.3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árkanév jó hírnevének kifejleszt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3.4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garanciáj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3.5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jelölése és tanúsítása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0120" y="533520"/>
            <a:ext cx="957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3.1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fogyasztó szempontjai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gyártó és szolgáltató vállalatok információt szeretnének kapni a következő tényezőkrő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733920"/>
            <a:ext cx="929628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Milyen minőséget igényelnek a felhasználó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Milyen újabb igényei vannak a felhasználókna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Melyek a felhasználó számára versenyképes jellemző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Hogyan jut döntésre a felhasználó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2" dur="1" fill="hold"/>
                                  <p:tgtEl>
                                    <p:spTgt spid="2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9576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3.2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termék áttervezése a felhasználótól kapott információ alapján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9525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75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gy termék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áttervezése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 csökkentheti a </a:t>
            </a:r>
            <a:br>
              <a:rPr sz="3000"/>
            </a:b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felhasználó által megreklamált hibákat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475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 felhasználói kívánságok felkutatásával kezdődik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3657600"/>
            <a:ext cx="929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kcionális teljesítőképesség fokozása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(gépkocsi teljesítmény, kijelző, lakás méret, komfortossá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ljesítőképesség fokozása egyéb tulajdonságokkal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(hosszabb élettartam, rövidebb száradási idejű festéke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izonyos munkák átirányítása a gyárba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(önkenő csapágyak, fagyasztott készétele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Üzembe helyezés megkönnyítés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(Öntapadó tapéta, zúzmaraképződés-mentes hűtőszekrén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957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3.3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árkanév jó hírnevének kifejlesztése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 algn="ct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A felhasználót leginkább befolyásolja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3124080"/>
            <a:ext cx="92962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Times New Roman"/>
              </a:rPr>
              <a:t>Egy adott márkával, vagy típussal kapcsolatos,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Times New Roman"/>
              </a:rPr>
              <a:t>már megszerzett tapasztala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3000">
            <a:off x="4609800" y="3771720"/>
            <a:ext cx="762120" cy="1295280"/>
          </a:xfrm>
          <a:custGeom>
            <a:avLst/>
            <a:gdLst>
              <a:gd name="textAreaLeft" fmla="*/ 118800 w 762120"/>
              <a:gd name="textAreaRight" fmla="*/ 667080 w 762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029200"/>
            <a:ext cx="8686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jó hírnév elérése: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KINC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943600"/>
            <a:ext cx="388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dvezőbb árat jelen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29240" y="5950080"/>
            <a:ext cx="424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önnyíti az értékesítés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3.4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garanciája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9525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 felhasználó a gyártótól biztosítékot kíván arra, hogy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vállalja az esetleges hibák következményeit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581280"/>
            <a:ext cx="716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a szolgáltatás helyreállításával,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 a kár megtérítésével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52480" y="4800600"/>
            <a:ext cx="6477120" cy="1692360"/>
            <a:chOff x="1752480" y="4800600"/>
            <a:chExt cx="6477120" cy="1692360"/>
          </a:xfrm>
        </p:grpSpPr>
        <p:sp>
          <p:nvSpPr>
            <p:cNvPr id="224" name=""/>
            <p:cNvSpPr/>
            <p:nvPr/>
          </p:nvSpPr>
          <p:spPr>
            <a:xfrm>
              <a:off x="1752480" y="5943600"/>
              <a:ext cx="6477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MINŐSÉGI GARANCI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4800600"/>
              <a:ext cx="762120" cy="1066680"/>
            </a:xfrm>
            <a:prstGeom prst="downArrow">
              <a:avLst>
                <a:gd name="adj1" fmla="val 50000"/>
                <a:gd name="adj2" fmla="val 34991"/>
              </a:avLst>
            </a:prstGeom>
            <a:solidFill>
              <a:srgbClr val="ff0000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3.5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jelölése és tanúsítása 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4172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gyártók árujegyet és műbizonylatot mellékelnek a termékekhez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4172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ENNEK CÉLJA: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809880"/>
            <a:ext cx="97538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Információ a termékrő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merteti a terméket, tartozékait, használatát, karbantartásá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Az értékesítés elősegíté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felhasználó ösztönzése, hogy vegye figyelembe a minőség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A termék biztosítás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üggetlen laboratórium által kiállított igazolás a termék minőségérő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4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ISO - A nemzetközi szabványügyi szerveze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29714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ccff"/>
                </a:solidFill>
                <a:latin typeface="Times New Roman"/>
              </a:rPr>
              <a:t>4.1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 ISO -ról általába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ccff"/>
                </a:solidFill>
                <a:latin typeface="Times New Roman"/>
              </a:rPr>
              <a:t>4.2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 Az ISO 9000 megjelen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ccff"/>
                </a:solidFill>
                <a:latin typeface="Times New Roman"/>
              </a:rPr>
              <a:t>4.3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 Az ISO 9000 szabványsorozat alapvető jellemző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ccff"/>
                </a:solidFill>
                <a:latin typeface="Times New Roman"/>
              </a:rPr>
              <a:t>4.4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 Az ISO 9001, ISO 9002, ISO 9003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957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33ccff"/>
                </a:solidFill>
                <a:latin typeface="Times New Roman"/>
              </a:rPr>
              <a:t>4.1</a:t>
            </a: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 ISO -ról általába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95252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ff99"/>
                </a:solidFill>
                <a:latin typeface="Times New Roman"/>
              </a:rPr>
              <a:t>ISO: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International Organizaion for Standardis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Nemzetközi Szabványügyi Szervez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ff99"/>
                </a:solidFill>
                <a:latin typeface="Times New Roman"/>
              </a:rPr>
              <a:t>Székhelye: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Genf, 90 tagállamból á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ff99"/>
                </a:solidFill>
                <a:latin typeface="Times New Roman"/>
              </a:rPr>
              <a:t>Alapítás: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194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957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4.2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z ISO 9000 megjelenés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952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cc"/>
                </a:solidFill>
                <a:latin typeface="Times New Roman"/>
              </a:rPr>
              <a:t>A Brit Szabványügyi Intézet (British Standards Institute) a hetvenes évek végére alkotta meg a világ első rendszerszabványát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563868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99"/>
                </a:solidFill>
                <a:latin typeface="Times New Roman"/>
              </a:rPr>
              <a:t>BS 5750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ely később lett az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99"/>
                </a:solidFill>
                <a:latin typeface="Times New Roman"/>
              </a:rPr>
              <a:t>ISO 9000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638680"/>
            <a:ext cx="9448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Magyarországon 1992 július 1-én lépett hatályb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SZ EN 29000</a:t>
            </a: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 azonosítóval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vezet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42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Felhasználók igényeinek elemz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Konstrukció kidolgozás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Gyártási eljárás megtervez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egfelelő minőséget biztosító gyártá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ermék használhatóságának ellenőrzése ill. mér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Viselkedést felügyelő, hibákat kijavító szervizszolgála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apasztalatok elemzése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0574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ff99"/>
                </a:solidFill>
                <a:latin typeface="Times New Roman"/>
              </a:rPr>
              <a:t>Gyártmány élettartam ciklus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1880" y="2133720"/>
            <a:ext cx="838440" cy="4419360"/>
          </a:xfrm>
          <a:prstGeom prst="upArrow">
            <a:avLst>
              <a:gd name="adj1" fmla="val 50000"/>
              <a:gd name="adj2" fmla="val 13177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440" y="2060640"/>
            <a:ext cx="83808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9576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4.3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z ISO 9000 szabványsorozat alapvető jellemzői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2666880"/>
            <a:ext cx="96012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 követelményeket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általánosa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fogalmazzák meg,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ezért szinte minden termék-előállító és szolgáltató szervezetnél alkalmazható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 vevő és a szervezet közötti kapcsolatot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vevő szemszögébő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szabályozzá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4.4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z ISO 9001, ISO 9002, ISO 9003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057400"/>
            <a:ext cx="9906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E három szabvány főként a megfelelőség bemutatására lett kiválasztva az ISO 9000 és ISO 9004 alkalmazása utá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3187800"/>
            <a:ext cx="7848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Olyan vállalatokra vonatkozik, melyeknek biztosítaniuk kell ügyfeleiket a követelmények teljesüléséről a tervezéstől a szolgáltatásig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5473800"/>
            <a:ext cx="76201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Az ellenőrzés és vizsgálatbeli képességek demonstrálására szolgál. Az ISO 9002 -nél is alacsonyabb szigorúsági szintű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546440"/>
            <a:ext cx="78487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termelési és szerelési képesség demonstrálására használják. Kevésbé szigorú mint az ISO 9001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581280"/>
            <a:ext cx="1828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SO 9001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4724280"/>
            <a:ext cx="1828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SO 9002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5867280"/>
            <a:ext cx="1828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SO 9003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5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Tanúsítá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9525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imes New Roman"/>
              </a:rPr>
              <a:t>5.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 tanúsításról általáb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imes New Roman"/>
              </a:rPr>
              <a:t>5.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 tanúsítás elnyer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5.3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z MSZT (Magyar Szabványügyi Testület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5.4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z MSZT tanúsítási szolgáltatása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5.5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Minőségtanúsítás - megfelelőség tanúsítás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5.6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CE-jelzé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56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5.7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z Európai Közösség irányelvei ( CE 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5.1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 tanúsításról általába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9525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tanúsítás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 annak igazolása, hogy a cég működését </a:t>
            </a:r>
            <a:br>
              <a:rPr sz="3000"/>
            </a:b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 következők jellemzik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581280"/>
            <a:ext cx="922032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nőség iránti elkötelezettsé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rmékek és szolgáltatások állandó minősé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vevői elvárások és igények kielégí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társadalmi elvárások kielégí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tevékenységek hiteles dokumentál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környezeti ártalmak felelős ellenőrzése és csökkentése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SO 14001 szabvány szeri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3" dur="1" fill="hold"/>
                                  <p:tgtEl>
                                    <p:spTgt spid="2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5.2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 tanúsítás elnyerés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94489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tanúsítá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a gyártóktól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 a forgalmazótó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 és a minőségügyi tanácsadó cégektő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üggetlen,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az EN 45012 szabvány szerint működő, akkreditált és pártatlan tanúsító szervezet végz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4724280"/>
            <a:ext cx="9219960" cy="1738440"/>
            <a:chOff x="304920" y="4724280"/>
            <a:chExt cx="9219960" cy="1738440"/>
          </a:xfrm>
        </p:grpSpPr>
        <p:sp>
          <p:nvSpPr>
            <p:cNvPr id="255" name=""/>
            <p:cNvSpPr/>
            <p:nvPr/>
          </p:nvSpPr>
          <p:spPr>
            <a:xfrm>
              <a:off x="304920" y="5943600"/>
              <a:ext cx="921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ccff"/>
                  </a:solidFill>
                  <a:latin typeface="Times New Roman"/>
                </a:rPr>
                <a:t>MAGYAR SZABVÁNYÜGYI TESTÜLET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089240" y="4724280"/>
              <a:ext cx="1656000" cy="1219320"/>
              <a:chOff x="4089240" y="4724280"/>
              <a:chExt cx="1656000" cy="1219320"/>
            </a:xfrm>
          </p:grpSpPr>
          <p:sp>
            <p:nvSpPr>
              <p:cNvPr id="257" name=""/>
              <p:cNvSpPr/>
              <p:nvPr/>
            </p:nvSpPr>
            <p:spPr>
              <a:xfrm>
                <a:off x="4089240" y="4724280"/>
                <a:ext cx="1656000" cy="1219320"/>
              </a:xfrm>
              <a:prstGeom prst="downArrow">
                <a:avLst>
                  <a:gd name="adj1" fmla="val 50019"/>
                  <a:gd name="adj2" fmla="val 71875"/>
                </a:avLst>
              </a:prstGeom>
              <a:solidFill>
                <a:srgbClr val="ff0066"/>
              </a:solidFill>
              <a:ln w="93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60880" y="5013360"/>
                <a:ext cx="15112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Például</a:t>
                </a:r>
                <a:endParaRPr b="0" lang="en-US" sz="2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5.3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z MSZT (Magyar Szabványügyi Testület)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A tanúsítási  feladatainak ellátását törvény teszi lehetőv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Gyártóktól, forgalmazóktól független, nonprofit szervez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Nemzetközi kapcsolatai révén a fejlődés élvonalát folyamatosan követ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A tanúsítási tevékenységet a nemzetközi követelmények szerint végz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ff99"/>
                </a:solidFill>
                <a:latin typeface="Times New Roman"/>
              </a:rPr>
              <a:t>A kiállított tanúsítványok nemzetközi elismerését szorgalmazz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752480"/>
            <a:ext cx="4953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vékenység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4" dur="1" fill="hold"/>
                                  <p:tgtEl>
                                    <p:spTgt spid="2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5.4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z MSZT tanúsítási szolgáltatásai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8920" y="2057040"/>
            <a:ext cx="9601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33"/>
                </a:solidFill>
                <a:latin typeface="Times New Roman"/>
              </a:rPr>
              <a:t>Választható szolgáltatások (megelőzik a tanúsítási audito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743200"/>
            <a:ext cx="9601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Előzetes felmér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A minőségirányítási/minőségbiztosítási dokumentáció előzetes értékelé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Előzetes rövid aud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Előzetes aud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181480"/>
            <a:ext cx="9448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Tanúsítási aud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Felügyeleti aud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- Okiratmegújító aud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920" y="4419720"/>
            <a:ext cx="9601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33"/>
                </a:solidFill>
                <a:latin typeface="Times New Roman"/>
              </a:rPr>
              <a:t>Kötelező szolgáltatások (a tanúsítási audit megszerzéséhez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9" dur="1" fill="hold"/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5.5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Minőségtanúsítás - megfelelőség tanúsítás. 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9680" y="1854360"/>
            <a:ext cx="9601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fogyasztóvédelmi törvény előírja, hogy a forgalomba kerülő árun, vagy csomagolására magyar nyelvű címkét kell tenni, melyen fel kell tüntetni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 áru pontos megnevezését (</a:t>
            </a:r>
            <a:r>
              <a:rPr b="1" i="1" lang="en-US" sz="2400" spc="-1" strike="noStrike">
                <a:solidFill>
                  <a:srgbClr val="00ff99"/>
                </a:solidFill>
                <a:latin typeface="Times New Roman"/>
              </a:rPr>
              <a:t>rendeltetésé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 áru gyártójának vagy forgalmazójának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nevé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 áru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származási helyé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 áru jellegétől függően az ár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210200"/>
            <a:ext cx="6858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megfelelőségi jelölés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minőségi osztályá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műszaki jellemző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rendeltetésszerű használhatóságának idej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- minőségi-mennyiségi összetétel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nettó mennyiség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- mérete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5.6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CE-jelzés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2146320"/>
            <a:ext cx="9601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anúsítás akkor történik, ha a termék tartalmi minőségéről közlünk érdeminek tekinthető információ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tanúsítás annak közlése, hogy az áru tulajdonságai megfelelnek valamely előírásnak, vagy szabványnak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038480"/>
            <a:ext cx="9296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z Európai Unióban meghonosodott tanúsítás: </a:t>
            </a:r>
            <a:r>
              <a:rPr b="0" lang="en-US" sz="3000" spc="-1" strike="noStrike">
                <a:solidFill>
                  <a:srgbClr val="00ff99"/>
                </a:solidFill>
                <a:latin typeface="Times New Roman"/>
              </a:rPr>
              <a:t>CE jelzé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4514400"/>
            <a:ext cx="8077320" cy="2191680"/>
            <a:chOff x="1066680" y="4514400"/>
            <a:chExt cx="8077320" cy="2191680"/>
          </a:xfrm>
        </p:grpSpPr>
        <p:sp>
          <p:nvSpPr>
            <p:cNvPr id="274" name=""/>
            <p:cNvSpPr/>
            <p:nvPr/>
          </p:nvSpPr>
          <p:spPr>
            <a:xfrm>
              <a:off x="1066680" y="5638680"/>
              <a:ext cx="8077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COMMUNAUTÉ EUROPÉENNE,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</a:rPr>
                <a:t>(Európai Közössé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3522000">
              <a:off x="7238520" y="4343400"/>
              <a:ext cx="457200" cy="1523880"/>
            </a:xfrm>
            <a:prstGeom prst="downArrow">
              <a:avLst>
                <a:gd name="adj1" fmla="val 50000"/>
                <a:gd name="adj2" fmla="val 83327"/>
              </a:avLst>
            </a:prstGeom>
            <a:solidFill>
              <a:srgbClr val="ff0066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9576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5.7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z Európai Közösség irányelvei ( CE )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5240" y="2286000"/>
            <a:ext cx="960120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CE jelzés azt jelenti, hogy a termék megfelel az Európai Közösség irányelveinek, előírásainak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Magyarországon bevezetett fontosabb előírások a következők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3809880"/>
            <a:ext cx="60199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Elektromágneses összeférhetőség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Gázkészüléke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Kisfeszültségű berendezése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Gépek biztonság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zemélyi védőeszközök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Játékok biztonság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5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1" dur="1" fill="hold"/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Alapfogalmak, meghatározáso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0120" y="2057400"/>
            <a:ext cx="9328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1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i funkció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2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jelentései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3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z irányítás jelent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4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irányítás jelentés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5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Termékek és szolgáltatások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6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i jellemző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7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konstrukció minősége és a kivitelezés minőség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8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Minőség, ár és szállítási határidő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1.9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A minőség javítása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668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2438280"/>
            <a:ext cx="1066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9525240" cy="29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80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Times New Roman"/>
              </a:rPr>
              <a:t>A felhasználó minőségi igényeinek kielégítése azt kívánja, hogy a gyártó minden fontosabb tevékenysége figyelembe vegye a felhasználó minőségre vonatkozó igényeit.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0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A vállalati tevékenységhez kapcsolódó valamennyi területet vizsgálat tárgyává kell tenni.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80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Ennek a komplex feladatnak 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9576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6.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Összegzé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4880" y="4437000"/>
            <a:ext cx="2057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végrehajtása,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felügyelete,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tanúsítás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8880" y="5734080"/>
            <a:ext cx="8929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minőségbiztosítási és minőségirányítási rendszerekkel valósítható meg hatékonyan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1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i funkció</a:t>
            </a:r>
            <a:br>
              <a:rPr sz="3900"/>
            </a:b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Minőségspirál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00200"/>
            <a:ext cx="3352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A minőségi funkció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on tevékenységek összessége, melyen keresztül a felhasználásra alkalmas kivitelt megvalósítju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4920" y="4572000"/>
            <a:ext cx="3429000" cy="2288520"/>
            <a:chOff x="304920" y="4572000"/>
            <a:chExt cx="3429000" cy="2288520"/>
          </a:xfrm>
        </p:grpSpPr>
        <p:sp>
          <p:nvSpPr>
            <p:cNvPr id="108" name=""/>
            <p:cNvSpPr/>
            <p:nvPr/>
          </p:nvSpPr>
          <p:spPr>
            <a:xfrm>
              <a:off x="304920" y="4572000"/>
              <a:ext cx="3429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 minőségi funkció megvalósításában a vállalati tevékenységek széles sora vesz részt. Ezen tevékenységek kapcsolódása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64771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5334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2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 jelentései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9525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Felhasználásra alkalmas kivit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178200" indent="-17820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Fokozat (osztálybesorolás, hanyadrendű a termék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178200" indent="-17820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A konstrukcióval való egyezés minőség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178200" indent="-17820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Minőségi jellemző (mérőszám a termék bármely sajátosságára)</a:t>
            </a:r>
            <a:br>
              <a:rPr sz="26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0" lang="hu-HU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886200"/>
            <a:ext cx="3352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megjelené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méret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élettartam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artósság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működ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karbantarthatóság, stb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715000"/>
            <a:ext cx="97538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 minőségi funkció (iparvállalatoknál a felelősség elnevezése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Részleg (minőségellenőrző osztály elnevezése egy vállalatnál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3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z irányítás jelentése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evékenységek tervszerű ciklusa, amelynek segítségével egy meghatározot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érünk 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6576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célt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tárgyat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szint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4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A minőségirányítás jelentése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420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azon tevékenységek összessége, melyen keresztül biztosítjuk a felhasználásra való alkalmasságot, aza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029200"/>
            <a:ext cx="8991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Times New Roman"/>
              </a:rPr>
              <a:t>végrehajtjuk a vállalat minőségi funkciójá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33ccff"/>
                </a:solidFill>
                <a:latin typeface="Times New Roman"/>
              </a:rPr>
              <a:t>1.5</a:t>
            </a:r>
            <a:r>
              <a:rPr b="0" i="1" lang="en-US" sz="3900" spc="-1" strike="noStrike">
                <a:solidFill>
                  <a:srgbClr val="ffcc66"/>
                </a:solidFill>
                <a:latin typeface="Times New Roman"/>
              </a:rPr>
              <a:t> Termékek és szolgáltatások</a:t>
            </a:r>
            <a:endParaRPr b="0" i="1" lang="en-US" sz="3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kereskedelem tárgya tartalmazz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895480"/>
            <a:ext cx="861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- a termékeket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(cipő, gépkocsi, tej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99"/>
                </a:solidFill>
                <a:latin typeface="Times New Roman"/>
              </a:rPr>
              <a:t>- szolgáltatásokat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 (villamos energia, hajvágás, utazás, oktatá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5029200"/>
            <a:ext cx="861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ff99"/>
                </a:solidFill>
                <a:latin typeface="Times New Roman"/>
              </a:rPr>
              <a:t>- funkcionális felhasználást, melyet a minőség tesz lehetővé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ff99"/>
                </a:solidFill>
                <a:latin typeface="Times New Roman"/>
              </a:rPr>
              <a:t>- nem funkcionális minőséget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 (státus-szimbolumok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z emberek vásárolnak, hogy biztosítsák 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10:14:43Z</dcterms:created>
  <dc:creator>Bihari Zoltán</dc:creator>
  <dc:description/>
  <dc:language>en-US</dc:language>
  <cp:lastModifiedBy>DömeDee</cp:lastModifiedBy>
  <dcterms:modified xsi:type="dcterms:W3CDTF">2007-03-27T10:14:40Z</dcterms:modified>
  <cp:revision>85</cp:revision>
  <dc:subject/>
  <dc:title>A minőség szerepe a termékfejlesztésben</dc:title>
</cp:coreProperties>
</file>