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76B-EAC7-4242-A881-7630B616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C39-F8FD-4A72-9C5F-99E9F1D0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325-C971-465E-AFC8-66D0B696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625-B5AC-4646-8212-3DFF5FB9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648-51F6-4A8D-A7FF-EDAC979B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625-7F46-4D3F-A176-5C12806B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535-A9A7-4F63-A545-BC859782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D27-2BC1-4ED0-974A-FCDA23B5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82C-0107-42B7-BC74-1CECECB2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880-B44E-4910-AC22-29E45DA4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E54-609D-43A0-A734-E5474CD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699-76C9-4AE1-A283-55B4A70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D4EE-B652-4826-8046-D9E05F5C6B9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yzetkép a hazai üzleti és technológiai inkubációs hálózatró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olgálta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pszolgáltatások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yiség bérlet, helyiség használat, IT szolgáltatás, személyi szolgált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egészítő szolgáltatások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odai szolgáltatások, eszközök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ltszintű szolgáltatások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üttműködés, tanács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éb szolgálta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érlő vállalkozások csoportosítása életkor szeri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8360" y="1557360"/>
          <a:ext cx="81360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36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.kkv szerepük szer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557360"/>
          <a:ext cx="820908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820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vékenység szeri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95280" y="1557360"/>
          <a:ext cx="8353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353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evékenység innovatív jellege szeri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628640"/>
          <a:ext cx="8353440" cy="37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35344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z inkubátorházban eltöltött idő alapjá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84280"/>
          <a:ext cx="828036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28036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81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ősség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étező, működő központok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szülő, új központok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hívatott menedzs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ővülő szolgáltatás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kihasználtsá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mai háttér (VISZ, MISZ, GKM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ályázati lehetőség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engeségek</a:t>
                      </a:r>
                      <a:br>
                        <a:rPr sz="2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 alapterület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 eltartóképesség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tív központi feladatok hiánya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entős bővítési forráshiány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enge érdekképviselet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ás nélküli központi elképzelések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enge külföldi kapcsolatrends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hetőségek</a:t>
                      </a:r>
                      <a:br>
                        <a:rPr sz="2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T-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ntralizációs elképzelések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kuló szövetségesi kapcsolatok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ációs monitoring rendsz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 csatlakozás- jelentős forrás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zélyek</a:t>
                      </a:r>
                      <a:br>
                        <a:rPr sz="2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K+F/GDP arány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zai fejlesztési források hiánya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készületlen központok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tív hazai kkv-k alacsony szá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övetkeztet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lmérések elemzése alapján ki kell alakítan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nősítési 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égiós (vagy területi közelségi) hálózati műkö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ri parki együttműkö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áció alkalmazásána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veit és gyakorlatá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galom tisztázá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vállalkozói inkubátorház olyan telepszerűen létesített ipari, szolgáltató és helyenként kereskedelmi létesítmények együttese, amely a mikro- kis- és középvállalkozások számára a kor színvonalán képes biztosítani a korszerű gyártmányok előállításához, a modern technológiák alkalmazásához nélkülözhetetlen feltételeket”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eladata, hogy olyan erőforrásokkal lássa el a holdudvarába tartozó kis- és középvállalkozókat, amelyek javítják sikerük esélyeit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Forrás: SEED-VISZ: Vállalkozói inkubátorok Magyarorszá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LVÁRÁSO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os szerepet játszik a vállalkozások létrehozásának és fejlődésének megkönnyítés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íti a kis és középvállalkozások beilleszkedését a helyi és regionális gazdaságba, miután védett környezetet biztosít számuk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karoló szerepet tölt be technikai és szakmai hátteré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ítja a kkv-k foglalkoztatási kapacitás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lcsszerepet játszik az innováció és kisvállalkozások kapcsolatá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áció átadó-közvetítő szerepet töl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zzájárul  helyi és regionális gazdaságfejlesztés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zt vesz a  társadalmi-műszaki fejlődés elősegítés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öbb fajta politikaterület céljait egy helyen valósítja meg: vállalkozásfejlesztés, innováció, regionális fejlesztés, európai uniós integráció, munkaü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ídképző szerepet töl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asabb minőségébe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ológiai, technikai szolgáltatást nyúj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acszervező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rásközvetítő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tletgondozó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zleti együttműködő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áció ösztönz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406440"/>
            <a:ext cx="889308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kubátorok régiók szer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8360" y="1657440"/>
          <a:ext cx="820728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57440"/>
                    <a:ext cx="820728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ari park - inkub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2093760"/>
          <a:ext cx="669600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93760"/>
                    <a:ext cx="6696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gadóképes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4259160"/>
                <a:gridCol w="1295640"/>
                <a:gridCol w="792000"/>
                <a:gridCol w="863640"/>
                <a:gridCol w="101916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tl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adható m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érlők szá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en belül 1-3 éve bérl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éve bérl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érlők által foglalkoztatot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átó szervezet létszá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apítás és működés támogat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ugati mint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ai tapasztal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szabaduló ingatlan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pítót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jlesztési pályázatok munkabér rés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364500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i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pítvá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alapít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t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ft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éb költségvetési s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8:41:57Z</dcterms:created>
  <dc:creator>annus</dc:creator>
  <dc:description/>
  <dc:language>en-US</dc:language>
  <cp:lastModifiedBy>SI</cp:lastModifiedBy>
  <dcterms:modified xsi:type="dcterms:W3CDTF">2005-10-03T08:18:13Z</dcterms:modified>
  <cp:revision>7</cp:revision>
  <dc:subject/>
  <dc:title>Helyzetkép a hazai üzleti és technológiai inkubációs hálózatról </dc:title>
</cp:coreProperties>
</file>