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A732A-CD5E-4FB9-8FC1-59CBA6FF2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3D5F0-4A63-4D84-864A-A968A0B53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ACCAA-2590-421A-A26A-19C71677E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F8121-1C8A-47E2-A240-BEEE009F0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9BFDE-D28D-4AA3-A444-C10DBA11C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7010E-8C33-4C01-A38C-804AB2966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2EC46-55AB-4393-BF9C-64D35E108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286D9-8B2B-454C-9261-446785334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F744F-F87A-4BA0-9637-B0DC28E04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1A768-6B60-4FBB-8E62-67C35F947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F1775-0C00-4786-A8DA-1F1F3AD36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2947B-38AD-473B-83DA-635F736AA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052B1-B6E1-4EAC-B723-73D8A2C7E21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A pályázás technikája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Arial"/>
              </a:rPr>
              <a:t>Kutatási és Technológiai Innovációs Alap terhére meghirdetett pályázatok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4. a tudományos és technológiai attasék (TéT) munkájának támogatása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5. a Nemzeti Kutatás-nyilvántartási Rendszer támogatása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6. a Tudomány- és Technológiapolitikai Tanácsadó Testület munkájának támogatása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7. az Alapkezelőnek átadott pénzeszköz é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8. új fejlesztési tervekre való felkészülés támogatás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Arial"/>
              </a:rPr>
              <a:t>Az innováció</a:t>
            </a:r>
            <a:br>
              <a:rPr sz="3200"/>
            </a:br>
            <a:r>
              <a:rPr b="1" lang="en-US" sz="3200" spc="-1" strike="noStrike">
                <a:solidFill>
                  <a:srgbClr val="ccffff"/>
                </a:solidFill>
                <a:latin typeface="Arial"/>
              </a:rPr>
              <a:t>szempontjából fontosabb, jelenleg ismert pályázati lehetőségek</a:t>
            </a:r>
            <a:br>
              <a:rPr sz="3200"/>
            </a:b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a.  Asbóth Oszkár progr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b.  Baross Gábor innovációs progr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c.  Irinyi János progr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d.  Jedlik Ányos progr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e.  Pázmány Péter Progr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f.   Rásegítő akció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Arial"/>
              </a:rPr>
              <a:t>Egyéb hazai pályázatok</a:t>
            </a:r>
            <a:br>
              <a:rPr sz="3200"/>
            </a:b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622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Az innovációk szempontjából fontos pályázatok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Gazdasági és Közlekedési Minisztérium: </a:t>
            </a: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www.gkm.gov.h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Foglalkoztatáspolitikai és Munkaügyi Minisztérium: </a:t>
            </a: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www.fmm.gov.h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Földművelésügyi és Vidékfejlesztési Minisztérium: </a:t>
            </a: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www.fvm.h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Környezetvédelmi és Vízügyi Minisztérium: </a:t>
            </a: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www.kvm.hu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Nemzeti Kutatási és Technológiai Hivatalt (NKTH): </a:t>
            </a: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www.nkth.gov.h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Kutatás-fejlesztési Pályázati és Kutatáshasznosítási Iroda: </a:t>
            </a: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www.kutatas.h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Arial"/>
              </a:rPr>
              <a:t>Egyéb hazai pályázatok</a:t>
            </a:r>
            <a:br>
              <a:rPr sz="3200"/>
            </a:b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gyar Innovációs Szövetség minden évben meghirdeti a magyar innovációs nagydíj pályázatát. A bírálóbizottság által kiemelkedőnek ítélt pályázatokat díjazzák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Arial"/>
              </a:rPr>
              <a:t>Pályázatírás – van recept?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gységes „recept” nincs, de van számos hasonló szerkezeti elem, technikai fogá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9800" indent="-4698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ályázatok felépítése, tartalma eltérő támogatási programonké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9800" indent="-4698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em csupán rutinfeladat, széleskörű ismereteket követel me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Arial"/>
              </a:rPr>
              <a:t>Pályázatok felépítése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ályázati felhívá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ályázati útmutat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ályázati formanyomtatván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gyéb útmutatók (pl. közbeszerzési, esélyegyenlőségi, stb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ámogatási szerződésmin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Kitöltendő nyilatkozato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datlap a támogatási döntésrő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Arial"/>
              </a:rPr>
              <a:t>Mérlegelendő szempontok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60080" indent="-460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Illik-e a projekt a támogatandó tevékenységek közé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60080" indent="-460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Jogosultsági kritériumoknak megfelelek-e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60080" indent="-460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Megfelelő-e a projektméret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60080" indent="-460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udok-e kapni minimális pontszámot (értékelő tábla)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60080" indent="-460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udom-e finanszírozni a projektet (nem csak önrészt!!!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60080" indent="-460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udok-e biztosítékot nyújtani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60080" indent="-460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Van-e elég időm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60080" indent="-460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Nem kezdtem-e meg a tevékenységet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Arial"/>
              </a:rPr>
              <a:t>Pályázat sikerének kulcsa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A pályázat legye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Megalapozott (igények, kockázatok, koherencia) – nem csak a bírálónak, magunknak is írjuk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Egységes, koherens, reális, mérhető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Fenntartható (pénzügyileg, intézményileg és szakmailag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Reális költségekkel, költséghatékonyan számoljun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Állítsunk mellé megfelelő szaktudá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Arial"/>
              </a:rPr>
              <a:t>A „jó” projekt ismérvei </a:t>
            </a:r>
            <a:br>
              <a:rPr sz="3200"/>
            </a:b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levá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gvalósíthat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enntarthat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gyed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külső környezetre is hatással v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ámogatják a partnerek és az érintette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Arial"/>
              </a:rPr>
              <a:t>A megfelelő pályázat kiválasztása</a:t>
            </a:r>
            <a:br>
              <a:rPr sz="4000"/>
            </a:b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lenőrizzük, hogy a pályázati kiírásban megfogalmazott cél egybeesik-e a mi elképzeléseink, projektünk céljaiva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izsgáljuk meg, beletartozunk-e a támogatásra jogosultak köréb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ntoljuk meg, hogy a pályázatban megjelölt futamidő elegendő-e a mi projekttervünk megvalósításához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hazai pályázatok rendszere három főbb csoportba sorolható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rukturális Alapok pályázata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utatási és Technológiai Innovációs Alap terhére meghirdetett pályázato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gyéb hazai pályázato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Arial"/>
              </a:rPr>
              <a:t>A megfelelő pályázat kiválasztása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Ellenőrizzük, hogy a támogatás mértéke egyezik-e elképzeléseinkke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Az ún. „de minimis” támogatási kategóriába tartozó pályázatoknál ellenőrizzük, hogy 3 év alatt igényeltünk-e ilye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Gondosan tanulmányozzuk át a felsorolt kizáró okoka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Arial"/>
              </a:rPr>
              <a:t>A megfelelő pályázat kiválasztása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ndoljuk át, hogy melyek a támogatható tevékenységek és költségek, s ezek elegendő lehetőséget nyújtanak-e számunkra a pályázati cél megvalósításához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llenőrizzük, hogy azok a dokumentumok, hivatalos iratok, amiket a pályázathoz illetve a szerződéskötéshez csatolni kell, a rendelkezésünkre állnak-e, illetve a megadott határidőre történő beszerzésük nem ütközik-e akadályokb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Arial"/>
              </a:rPr>
              <a:t>A megfelelő pályázat kiválasztása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érlegeljünk, hogy az elszámolás feltételei számunkra elfogadhatóak-e, teljesíthetőek-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 kell, szakembert is vegyünk igénybe a pályázat megírásához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Arial"/>
              </a:rPr>
              <a:t>A csatolandó dokumentumok beszerzése, elkészíttetése</a:t>
            </a:r>
            <a:br>
              <a:rPr sz="4000"/>
            </a:b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lenőrizni kell, hogy a pályázathoz csatolandó dokumentumok rendelkezésre állnak-e. Ha nem, el kell kezdeni a beszerzésüket, hogy a pályázat benyújtásának idejére hiánytalanul rendelkezésünkre álljanak. Sok esetben hitelesített másolatot kérnek, ilyenkor nem kerülhető el a közjegyző által történő hitelesítés, ami ugyancsak időigény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Arial"/>
              </a:rPr>
              <a:t>A csatolandó dokumentumok beszerzése, elkészíttetése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annak olyan (általában beruházást támogató) pályázatok, ahol a pályázathoz mellékelni kell a megvalósíthatósági tanulmányt, a környezetvédelmi hatásvizsgálatot, műszaki- terveket, dokumentumokat, költségtervet stb. Ha nem áll rendelkezésünkre – és kérik a pályázathoz – el kell készíteni (sok esetben érdemes elkészíttetni) e dokumentumokat i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Arial"/>
              </a:rPr>
              <a:t>A projektjavaslat, munkaterv elkészítése</a:t>
            </a:r>
            <a:br>
              <a:rPr sz="4000"/>
            </a:b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bben a részben fejtsük ki, hogy a kért támogatásból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it, miért, mikor, kinek,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és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ogyan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karunk megvalósítani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tassuk b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hosszabb távú,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általános cél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övid távú, konkrét célok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z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elvégzendő tevékenységek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Arial"/>
              </a:rPr>
              <a:t>A projektjavaslat, munkaterv elkészítése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Állítsunk mérföldköveke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észítsünk költségvetés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ntos, hogy a pályázó tisztában legyen azzal, hogy a táblázatba beírt számok pénzügyi kötelezettségvállalást jelentenek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tassunk rá, hogy milyen eredmények várhatók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tassunk rá a projekt megvalósítása során felmerülő kockázatokra i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Arial"/>
              </a:rPr>
              <a:t>A projektjavaslat, munkaterv elkészítése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élszerű a kapcsolódó projekteket felsorolni, röviden ismertetni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 felejtsük el érinteni a projekt környezeti hatásai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pályázók bemutatás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z együttműködő partnerek bemutatás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eadás előtt ellenőrzés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Baross Gábor Program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gionális innovációs fejlesztése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Észak-magyarországi Régi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ályázati kiírá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ccffff"/>
                </a:solidFill>
                <a:latin typeface="Arial"/>
              </a:rPr>
              <a:t>A Strukturális Alapok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rukturális Alapok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 (1260/99. EK)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Európai Regionális Fejlesztési Alap (ERFA, ERDF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Európai Szociális Alap (ESZA, ESF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Európai Mezőgazdasági Orientációs és Garancia Alap Orientációs Szekció (EMOGA, EAGGF-GS, FEOGA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Halászati Orientációs Pénzügyi Eszköz (HOPE, FIFG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özösségi kezdeményezések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 - Interreg (regionális együttműködés), Leader (vidékfejlesztés), Equal (esélyegyenlősé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ohéziós Alap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 (nagy projektek, közlekedés és környezetvédele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Baross Gábor Program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TARTALOMJEGYZÉ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1. A támogatás célja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2. A támogatás forrása és össze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3. A támogatásban részesülı pályázatok várható szám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4. A támogatásra jogosultak kö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5. A támogatás formája, futamidej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6. A támogatás mérték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7. Kizáró okok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8. Támogatható tevékenysége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9. Finanszírozás és elszámolható költségek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9.1. A kutatás-fejlesztési támogatás esetében elszámolható költsége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9.2. A „de minimis” támogatás esetében elszámolható költségek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9.3. Általános szabályo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10. Az elbírálási, kiválasztási szemponto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11. A célok számszerűsítésére használt mutatószámok (indikátorok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12. A pályázatok benyújtásának helye, módja, határidej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Baross Gábor Program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A támogatás célja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termelő vállalkozások fejlesztését kell elősegíteni kiemelve az új termék, új szolgáltatás, vagy korszerű technológia bevezetésének kérdései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Baross Gábor Program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 pályázati kiírás keretében az alábbi programokra lehet pályázatot benyújtani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termelő vállalkozások alkalmazás orientált kutatás-fejlesztési és technológiai innovációs tevékenységének támogatása, amely új innovatív, magas hozzáadott értéket biztosító verseny- és/vagy piacképes termékek kialakítását, vagy a termékek előállításához kapcsolódó technológiák, kidolgozását, K+F eredmények megvásárlását, technológia-intenzív szolgáltató centrum létrehozását, prototípusok előállítását, vagy előállíttatását, innovációs szolgáltatások megrendelését, az innovációs tevékenységhez szükséges eszközök, immateriális javak beszerzésének támogatását jelenti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Baross Gábor Program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400" spc="-1" strike="noStrike">
                <a:solidFill>
                  <a:srgbClr val="ffffff"/>
                </a:solidFill>
                <a:latin typeface="Arial"/>
              </a:rPr>
              <a:t>A támogatásra jogosultak kör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A régióban bejegyzett székhellyel vagy telephellyel rendelkező jogi személyiségű vagy jogi személyiséggel nem rendelkező kis és középvállalkozások, közhasznú társaságok, non-profit kutató helyek vagy ezek konzorciumai. Konzorciumok esetén preferált, ha a konzorciumokban önálló kutatóhelyekkel rendelkező szervezetek, és/vagy nagyvállalatok vesznek részt. Felsőoktatási intézmények abban az esetben jogosultak önálló támogatásra pályázni, ha vállalják a projekt megvalósításához kapcsolódóan spin-off vállalkozások alapításában való közreműködést, vagy más vállalkozással - szerződéssel dokumentált partneri viszonyban – történő együttműködést i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Baross Gábor Program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Támogatható tevékenységek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. kutatói munkakörökhöz kapcsolható tárgyi feltételrendszerek megteremté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. kísérleti eszközök, berendezések, felszerelések beszerzé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. hálózati kapcsolódási feltételek megteremté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. infrastrukturális feltételek megteremté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. a kiküldő szervezet által biztosított ösztöndíj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. helyi, helyközi, nemzetközi utazási, szállás, étkezés költsége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Baross Gábor Program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utatás-fejlesztési támogatás adható az alábbi tevékenységekhez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. új, innovatív, verseny- és piacképes termék-, technológia-, és rendszer fejlesztése, technológia-intenzív szolgáltatások létrehozás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. prototípusok előállítása, a prototípusok előállításához használható készülékek, szerszámok tervezése, gyártás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. új szimulációs, teszt módszerek kifejlesztése, alkalmazás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Baross Gábor Program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. csúcstechnológiai eljárások átvétele, alkalmazása, az alkalmazáshoz kapcsolódó feltételrendszerek megteremtése, és továbbfejlesztése (a projektben a beruházás mértéke nem haladhatja meg a támogatás 40%-á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. termék- és technológiafejlesztéshez kapcsolódó mérőeszközök beszerzése, üzembe állítása (a projektben a beruházás mértéke nem haladhatja meg a támogatás 40%-á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. know-how megszerzése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Baross Gábor Program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g. K+F szolgáltatások igénybevétele (pl.: technológiai háttérszolgáltatás, akkreditáció, technológiai tanácsadás, újdonság és szabadalomkutatás, szabadalmi és mintaoltalmi bejegyeztetés,stb.) Szabadalmi és mintaoltalmi bejegyeztetés vállalkozás esetében nem támogatható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h. a tudás- és technológia-intenzív kezdő (start-up) és hasznosító (spin-off) vállalkozások létrehozásának, innovációs feladatainak, tevékenységének támogatás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Baross Gábor Program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2) „De minimis” támogatás adható a következő tevékenységekhez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a. K+F szolgáltatások igénybevétele (pl.: technológiai háttérszolgáltatás, akkreditáció, innovációs marketing, technológiai tanácsadás, újdonság- és szabadalomkutatás, szabadalmi és mintaoltalmi bejegyeztetés, stb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Baross Gábor Program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z elbírálási, kiválasztási szempontok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mai ellenőrzé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zakmai értékelé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Arial"/>
              </a:rPr>
              <a:t>Strukturális Alapok pályázatai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hhoz, hogy a kevésbé fejlett tagállamok, illetve régiók - így Magyarország is - igénybe vehessék a Strukturális Alapok támogatásait,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emzeti Fejlesztési Terv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NFT) keretében ki kellett dolgozniuk és az Európai Bizottság elé kellett terjeszteniük fejlesztési célkitűzéseiket és prioritásaika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Baross Gábor Program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zakmai értékelé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. a projekt innováció tartalma (0-20 pon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. a projekt szakmai, műszaki megvalósíthatósága (0-30 pon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. az előirányzott beszerzések, megbízások illetve szolgáltatások indokoltsága, tervezett költségeinek realitása (0-30 pon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. az innováció társadalmi/gazdasági jelentősége a vállalkozás, a vállalkozói kör, a szakterület, illetve a régió gazdasága szempontjából (0-20 pon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Baross Gábor Program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pályázatra maximálisan 100 pont adható. A támogatás feltétele, hogy az összpontszám elérje a 75-ö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szakmailag értékelt pályázatok bírálatát a Regionális Bíráló Bizottság végzi, amelynek feladata az értékelt pályázatok rangsorolása, ajánlattételi sorrend felállítása a Regionális Innovációs Tanács, illetve a Regionális Fejlesztési Tanács részé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Baross Gábor Program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pályázatok szakmai előminősítését a szakértői listára került, felkért szakértők végzik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tasítások szakmai előminősítők számár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zempontok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Baross Gábor Program</a:t>
            </a:r>
            <a:r>
              <a:rPr b="1" lang="en-US" sz="1800" spc="-1" strike="noStrike">
                <a:solidFill>
                  <a:srgbClr val="ccffff"/>
                </a:solidFill>
                <a:latin typeface="Arial"/>
              </a:rPr>
              <a:t> </a:t>
            </a:r>
            <a:br>
              <a:rPr sz="1800"/>
            </a:br>
            <a:r>
              <a:rPr b="1" lang="en-US" sz="1800" spc="-1" strike="noStrike">
                <a:solidFill>
                  <a:srgbClr val="ccffff"/>
                </a:solidFill>
                <a:latin typeface="Arial"/>
              </a:rPr>
              <a:t>A. A projekt innováció tartalma</a:t>
            </a:r>
            <a:br>
              <a:rPr sz="4000"/>
            </a:br>
            <a:endParaRPr b="0" lang="en-US" sz="1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. Szellemi hozzáadott érték aránya (0-3 pon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. Projekt célja a piac tekintetében (0-3 pon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. Projekt újszerűsége, újdonságtartalma (0-3 pon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. Projekt kapcsolódása tudás- és technológia-intenzív szakterületekhez (0-3 pon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Baross Gábor Program</a:t>
            </a:r>
            <a:r>
              <a:rPr b="1" lang="en-US" sz="2000" spc="-1" strike="noStrike">
                <a:solidFill>
                  <a:srgbClr val="ccffff"/>
                </a:solidFill>
                <a:latin typeface="Arial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ccffff"/>
                </a:solidFill>
                <a:latin typeface="Arial"/>
              </a:rPr>
              <a:t>A. A projekt innováció tartalma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 A projekt innovációja által eredményezett hozzáadott érték mértéke (0-3 pon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. Hozzájárulás a beszállítói, ipari kooperációs vagy innovációs együttműködés erősödéséhez (0-3 pon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7. Milyen a pályázó kapcsolódása a különböző innovációs szolgáltatásokat nyújtó szervezetekhez és más szállító, együttműködő vagy felhasználó vállalatokhoz? (0-2 pon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cc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Baross Gábor Program</a:t>
            </a:r>
            <a:r>
              <a:rPr b="1" lang="en-US" sz="1800" spc="-1" strike="noStrike">
                <a:solidFill>
                  <a:srgbClr val="ccffff"/>
                </a:solidFill>
                <a:latin typeface="Arial"/>
              </a:rPr>
              <a:t> </a:t>
            </a:r>
            <a:br>
              <a:rPr sz="1800"/>
            </a:br>
            <a:r>
              <a:rPr b="1" lang="en-US" sz="1800" spc="-1" strike="noStrike">
                <a:solidFill>
                  <a:srgbClr val="ccffff"/>
                </a:solidFill>
                <a:latin typeface="Arial"/>
              </a:rPr>
              <a:t>B. A projekt szakmai, műszaki megvalósíthatósága</a:t>
            </a:r>
            <a:br>
              <a:rPr sz="4000"/>
            </a:br>
            <a:endParaRPr b="0" lang="en-US" sz="1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. Tartalmaz-e megvalósíthatósági tanulmányt vagy elemzést a pályázat? (0-5 pon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Milyen mértékben támasztják alá a projekt célkitűzéseinek megvalósítását a felhasználni tervezett K+F eredmények? (0-4 pon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 A projekt célkitűzése és a pályázati kiírás összhangban van-e? (0-1 pon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0 pont esetén nem támogatható 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Baross Gábor Program</a:t>
            </a:r>
            <a:r>
              <a:rPr b="1" lang="en-US" sz="1800" spc="-1" strike="noStrike">
                <a:solidFill>
                  <a:srgbClr val="ccffff"/>
                </a:solidFill>
                <a:latin typeface="Arial"/>
              </a:rPr>
              <a:t> </a:t>
            </a:r>
            <a:br>
              <a:rPr sz="1800"/>
            </a:br>
            <a:r>
              <a:rPr b="1" lang="en-US" sz="1800" spc="-1" strike="noStrike">
                <a:solidFill>
                  <a:srgbClr val="ccffff"/>
                </a:solidFill>
                <a:latin typeface="Arial"/>
              </a:rPr>
              <a:t>B. A projekt szakmai, műszaki megvalósíthatósága</a:t>
            </a: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 Szakmai szempontból reális-e a projekt célkitűzése, a tervezett feladatok elvégzése (0-4 pon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 Nincs-e elvi, elméleti akadálya a tervezett feladatok elvégzésének? (0-1 pon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0 pont esetén nem támogatható 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. Megvalósíthatóság személyes, szakmai feltételei (0-4 pon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7. Megvalósíthatóság tárgyi feltételei (0-4 pon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Baross Gábor Program</a:t>
            </a:r>
            <a:r>
              <a:rPr b="1" lang="en-US" sz="1800" spc="-1" strike="noStrike">
                <a:solidFill>
                  <a:srgbClr val="ccffff"/>
                </a:solidFill>
                <a:latin typeface="Arial"/>
              </a:rPr>
              <a:t> </a:t>
            </a:r>
            <a:br>
              <a:rPr sz="1800"/>
            </a:br>
            <a:r>
              <a:rPr b="1" lang="en-US" sz="1800" spc="-1" strike="noStrike">
                <a:solidFill>
                  <a:srgbClr val="ccffff"/>
                </a:solidFill>
                <a:latin typeface="Arial"/>
              </a:rPr>
              <a:t>B. A projekt szakmai, műszaki megvalósíthatósága</a:t>
            </a: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8. Projektjavaslat részletezettsége (0-7 pon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Baross Gábor Program</a:t>
            </a:r>
            <a:r>
              <a:rPr b="1" lang="en-US" sz="1800" spc="-1" strike="noStrike">
                <a:solidFill>
                  <a:srgbClr val="ccffff"/>
                </a:solidFill>
                <a:latin typeface="Arial"/>
              </a:rPr>
              <a:t> </a:t>
            </a:r>
            <a:br>
              <a:rPr sz="1800"/>
            </a:br>
            <a:r>
              <a:rPr b="1" lang="en-US" sz="1800" spc="-1" strike="noStrike">
                <a:solidFill>
                  <a:srgbClr val="ccffff"/>
                </a:solidFill>
                <a:latin typeface="Arial"/>
              </a:rPr>
              <a:t>C. Az előirányzott beszerzések, megbízások illetve szolgáltatások indokoltsága, tervezett költségek realitása</a:t>
            </a:r>
            <a:endParaRPr b="0" lang="en-US" sz="1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. Valóban a projekt célkitűzés elérését szolgálja-e azon feladatok megoldása, amelyekhez a pályázó támogatást szándékozik igénybe venni? (0-5 pon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0 pont esetén nem támogatható 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. Valóban előbbre viszik-e a projekt megvalósítását a támogatásra tervezett beszerzések és szolgáltatások? (0-4 pon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Baross Gábor Program</a:t>
            </a:r>
            <a:r>
              <a:rPr b="1" lang="en-US" sz="1800" spc="-1" strike="noStrike">
                <a:solidFill>
                  <a:srgbClr val="ccffff"/>
                </a:solidFill>
                <a:latin typeface="Arial"/>
              </a:rPr>
              <a:t> </a:t>
            </a:r>
            <a:br>
              <a:rPr sz="1800"/>
            </a:br>
            <a:r>
              <a:rPr b="1" lang="en-US" sz="1800" spc="-1" strike="noStrike">
                <a:solidFill>
                  <a:srgbClr val="ccffff"/>
                </a:solidFill>
                <a:latin typeface="Arial"/>
              </a:rPr>
              <a:t>C. Az előirányzott beszerzések, megbízások illetve szolgáltatások indokoltsága, tervezett költségek realitása</a:t>
            </a:r>
            <a:endParaRPr b="0" lang="en-US" sz="1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. Illeszkednek-e tervezett beszerzések és szolgáltatások a projekt megvalósítása érdekében elvégzendő feladatok sorába? (0-4 pon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. Reálisak-e a beszerzés, illetve a megbízás költségei, amihez a támogatást igénylik? (0-5 pont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0 pont esetén nem támogatható 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Arial"/>
              </a:rPr>
              <a:t>Strukturális Alapok pályázatai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z NFT öt Operatív Programja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. Gazdasági Versenyképesség Operatív Program (GVOP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. Környezetvédelem és Infrastruktúrafejlesztési Operatív Program (KIOP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. Humánerőforrás-fejlesztés Operatív Program (HEFOP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Baross Gábor Program</a:t>
            </a:r>
            <a:r>
              <a:rPr b="1" lang="en-US" sz="1800" spc="-1" strike="noStrike">
                <a:solidFill>
                  <a:srgbClr val="ccffff"/>
                </a:solidFill>
                <a:latin typeface="Arial"/>
              </a:rPr>
              <a:t> </a:t>
            </a:r>
            <a:br>
              <a:rPr sz="1800"/>
            </a:br>
            <a:r>
              <a:rPr b="1" lang="en-US" sz="1800" spc="-1" strike="noStrike">
                <a:solidFill>
                  <a:srgbClr val="ccffff"/>
                </a:solidFill>
                <a:latin typeface="Arial"/>
              </a:rPr>
              <a:t>C. Az előirányzott beszerzések, megbízások illetve szolgáltatások indokoltsága, tervezett költségek realitása</a:t>
            </a:r>
            <a:endParaRPr b="0" lang="en-US" sz="1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. Reálisan mérte-e fel finanszírozási képességét a projekt megvalósításához? (0-4 pon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6. Hogyan tervezi a hiányzó eszközök, infrastruktúra biztosítását? (0-4 pon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. A saját források rendelkezésre állnak-e? (0-4 pon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Baross Gábor Program</a:t>
            </a:r>
            <a:r>
              <a:rPr b="1" lang="en-US" sz="1800" spc="-1" strike="noStrike">
                <a:solidFill>
                  <a:srgbClr val="ccffff"/>
                </a:solidFill>
                <a:latin typeface="Arial"/>
              </a:rPr>
              <a:t> </a:t>
            </a:r>
            <a:br>
              <a:rPr sz="1800"/>
            </a:br>
            <a:r>
              <a:rPr b="1" lang="en-US" sz="1800" spc="-1" strike="noStrike">
                <a:solidFill>
                  <a:srgbClr val="ccffff"/>
                </a:solidFill>
                <a:latin typeface="Arial"/>
              </a:rPr>
              <a:t>D. Az innováció társadalmi/gazdasági jelentősége a vállalkozás, a vállalkozói kör, a szakterület, illetve a régió gazdasága szempontjából</a:t>
            </a:r>
            <a:endParaRPr b="0" lang="en-US" sz="1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.Milyen mértékben támaszkodik a projekt megvalósítása a régió tudásbázisára? (0-1 pon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. Milyen mértékben támaszkodik a kooperációs kapcsolatokra az innováció eredményén létrejövő vállalkozás vagy üzletág a régión belül? (0-2 pon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Baross Gábor Program</a:t>
            </a:r>
            <a:r>
              <a:rPr b="1" lang="en-US" sz="1800" spc="-1" strike="noStrike">
                <a:solidFill>
                  <a:srgbClr val="ccffff"/>
                </a:solidFill>
                <a:latin typeface="Arial"/>
              </a:rPr>
              <a:t> </a:t>
            </a:r>
            <a:br>
              <a:rPr sz="1800"/>
            </a:br>
            <a:r>
              <a:rPr b="1" lang="en-US" sz="1800" spc="-1" strike="noStrike">
                <a:solidFill>
                  <a:srgbClr val="ccffff"/>
                </a:solidFill>
                <a:latin typeface="Arial"/>
              </a:rPr>
              <a:t>D. Az innováció társadalmi/gazdasági jelentősége a vállalkozás, a vállalkozói kör, a szakterület, illetve a régió gazdasága szempontjából</a:t>
            </a:r>
            <a:endParaRPr b="0" lang="en-US" sz="1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 A projekt összefüggésben áll-e a KKV szektor versenyképességének növelésével (0-1 pon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 Létrehoz-e, vagy megőriz-e munkahelyeket az innováció eredményén létrejövő vállalkozás vagy üzletág? (0-1 pon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 Milyen mértékben egészség-kímélő az innováció eredményeként létrejött technológia, termék vagy szolgáltatás előállítása, illetve működtetése? (0-2 pon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Baross Gábor Program</a:t>
            </a:r>
            <a:r>
              <a:rPr b="1" lang="en-US" sz="1800" spc="-1" strike="noStrike">
                <a:solidFill>
                  <a:srgbClr val="ccffff"/>
                </a:solidFill>
                <a:latin typeface="Arial"/>
              </a:rPr>
              <a:t> </a:t>
            </a:r>
            <a:br>
              <a:rPr sz="1800"/>
            </a:br>
            <a:r>
              <a:rPr b="1" lang="en-US" sz="1800" spc="-1" strike="noStrike">
                <a:solidFill>
                  <a:srgbClr val="ccffff"/>
                </a:solidFill>
                <a:latin typeface="Arial"/>
              </a:rPr>
              <a:t>D. Az innováció társadalmi/gazdasági jelentősége a vállalkozás, a vállalkozói kör, a szakterület, illetve a régió gazdasága szempontjából</a:t>
            </a:r>
            <a:endParaRPr b="0" lang="en-US" sz="1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. Milyen mértékben erőforrás- és környezetkímélő az innováció eredményeként létrejött technológia, termék vagy szolgáltatás előállítása, illetve működtetése? (0-2 pon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7. Vannak-e a projektnek etikai aspektusai? Ha igen, hogyan kezeli ezeket? (0-1 pon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. Hozzájárul-e a projekt a régió számára fontos társadalmi problémák kezeléséhez vagy megoldásához (pl. életminőség, közegészség, közbiztonság, esélyegyenlőség)? (0-1 pon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Baross Gábor Program</a:t>
            </a:r>
            <a:r>
              <a:rPr b="1" lang="en-US" sz="1800" spc="-1" strike="noStrike">
                <a:solidFill>
                  <a:srgbClr val="ccffff"/>
                </a:solidFill>
                <a:latin typeface="Arial"/>
              </a:rPr>
              <a:t> </a:t>
            </a:r>
            <a:br>
              <a:rPr sz="1800"/>
            </a:br>
            <a:r>
              <a:rPr b="1" lang="en-US" sz="1800" spc="-1" strike="noStrike">
                <a:solidFill>
                  <a:srgbClr val="ccffff"/>
                </a:solidFill>
                <a:latin typeface="Arial"/>
              </a:rPr>
              <a:t>D. Az innováció társadalmi/gazdasági jelentősége a vállalkozás, a vállalkozói kör, a szakterület, illetve a régió gazdasága szempontjából</a:t>
            </a:r>
            <a:endParaRPr b="0" lang="en-US" sz="1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. Milyen mértékben járul hozzá a területi és regionális egyenlőtlenségek csökkentéséhez, hozzájárul-e a hátrányos helyzetű régió felzárkózásához? (0-2 pon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0. Illik-e a projekt a régió fejlesztési stratégiájába? (0-6 pon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Strukturális Alapok pályázatai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. Agrár- és Vidékfejlesztés Operatív Program (AVOP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. Regionális Fejlesztés Operatív Program (ROP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Arial"/>
              </a:rPr>
              <a:t>2007-2013 közötti időszak tervezett Operatív Programjai: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a. Versenyképes Gazdaság Operatív Program (VEGOP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b. Közlekedés Operatív Program (KEOP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c. Emberi Erőforrások Fejlesztése Operatív progr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d. Humán Infrastruktúra Operetív Progr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e. Környezeti Operatív Progr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Arial"/>
              </a:rPr>
              <a:t>2007-2013 közötti időszak tervezett Operatív Programjai: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. Területfejlesztési Operatív Progr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. Közép-Magyarországi Régió (komplex) Operatív Programj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. Igazgatási Rendszer Korszerűsítése Operatív Progr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Arial"/>
              </a:rPr>
              <a:t>Kutatási és Technológiai Innovációs Alap terhére meghirdetett pályázatok</a:t>
            </a:r>
            <a:br>
              <a:rPr sz="3200"/>
            </a:b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Kutatási és Technológiai Innovációs Alap 2006. évi felhasználásának fő céljai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 a vállalati innováció és a gazdaságban hasznosuló K+F támogatása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 a regionális innováció elősegítése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 a tudás- és technológiatranszfer, az együttműködés és az infrastruktúra fejlesztése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5T12:02:41Z</dcterms:created>
  <dc:creator>mad</dc:creator>
  <dc:description/>
  <dc:language>en-US</dc:language>
  <cp:lastModifiedBy>mad</cp:lastModifiedBy>
  <dcterms:modified xsi:type="dcterms:W3CDTF">2006-10-13T09:35:47Z</dcterms:modified>
  <cp:revision>20</cp:revision>
  <dc:subject/>
  <dc:title>A pályázás tecnikája</dc:title>
</cp:coreProperties>
</file>