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SUHINT.WAV" ContentType="audio/x-wav"/>
  <Override PartName="/ppt/media/image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A22-3FBC-4476-8352-F05B68FF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EE8-7BC1-4B35-92ED-85103FF5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A27-2A88-49B5-930E-7CB0AC93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7B9-D297-4F31-AD9D-8FE626F4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6FC-3639-4434-8236-C8E7723D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94E-8CFE-4A4C-B68E-12A50258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153-C4F9-4233-A43C-411C08DA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2C3-793D-4B96-8C10-1FF7EBC8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FFC-4C04-4C44-ACF9-522BBF44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877-860D-4458-9734-5C88AD5B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C8C-F860-443A-8A46-7CE3DE4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5A8-3089-4982-BA92-77D654DE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2EBD-9984-4D2F-B92E-502E1B78AC6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654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kfejlesztés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8920" y="6183360"/>
            <a:ext cx="76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Misko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28600"/>
          <a:ext cx="106668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0666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95280" y="228600"/>
            <a:ext cx="198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MISKOLCI EGYE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Gépészmérnök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Gépelemek Tanszé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8305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árgyelőadó: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Dr. Siposs Istv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etemi docens, ME Gépelemek Tanszé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árgyfelelős: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Bihari Já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anársegéd, ME Gépelemek Tanszé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43200" y="2286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8080"/>
            <a:ext cx="8839080" cy="54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FEJLESZ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MŰSZAKI FEJLESZ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KUTATÁS - FEJLESZ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Célj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ladat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vékenység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Szakasz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Értékel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VÁLLALATI ÁLTALÁNOS TERMELÉSI ÉS FEJLESZTÉSI TEVÉKENY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lőkészítő tevékeny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rmelési tevékeny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rmelést követő tevékeny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3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8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77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EJLESZTÉSI IG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2286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60" y="6578640"/>
            <a:ext cx="385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9528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értelmű fejlesztési ig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3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55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EJLESZTÉSI IGÉ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ŰSZAKI FEJLESZTÉSI T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Vállalatfejl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Gyártásfejl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Gyártmányfejl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űszaki fejlesztés tervezésének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4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62320" y="762120"/>
            <a:ext cx="4481280" cy="556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yártmányfejlesztés folyamata egyedi termék előállítása eset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5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24280" y="1066680"/>
            <a:ext cx="3297240" cy="518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2286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yártmányfejlesztés folyamata általános jellegű gyártmány eset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6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657600" cy="5145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edileg gyártott termék fejlesztési munkafázis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7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00360" y="709560"/>
            <a:ext cx="3863880" cy="561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orozatban gyártott termék fejlesztési munkafázis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8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992760" cy="563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066680"/>
            <a:ext cx="9144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I.</a:t>
            </a: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FEJLESZTÉSI SZAKAS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anulmány készí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rvcél készí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Műszaki terv készí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kció elkészít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Prototípus gyár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II.</a:t>
            </a: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BEVEZETÉSI SZAKAS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-sorozat gyárt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Gyártástechnológia értékel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Sorozatgyártás előkészít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Átvételi, minősítési utasítások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Befejező fáz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rvezői műveze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 GYÁRTMÁNYFEJLESZTÉSI FOLYAMAT SZAKASZA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2819520"/>
            <a:ext cx="152280" cy="2590560"/>
          </a:xfrm>
          <a:custGeom>
            <a:avLst/>
            <a:gdLst>
              <a:gd name="textAreaLeft" fmla="*/ 0 w 152280"/>
              <a:gd name="textAreaRight" fmla="*/ 55080 w 1522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8560" y="1905120"/>
            <a:ext cx="195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lőkészítő fáz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4000" y="4114800"/>
            <a:ext cx="217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idolgozás fázi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56386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ermékfejlesztés alapjai c. tárgy ütemt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Bevezetés. Alapfogalm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ermékfejlesztés folya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konstrukciókészítés folya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innováció folya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echnológia transzfer folyamatok struktúrá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echnológia transzfer folyamatok finanszírozási kérdés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innovációs folyamat kísérő jelenség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marketing szerepe a termékfejlesztés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minőség szerepe a termékfejlesztés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minőségbiztosítás szabvány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recycling szempontjából helyes tervez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pályázatkészítés szerepe a termékfejlesztés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Esettanulmány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Esettanulmány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onstrukciós tevékenység elvi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9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4950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9144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rvtanulmány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Új gyártmány kezdeményezése;                                  igénybejelentés külső szerv részéről,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 vállalat feladatköréből eredő folyamatos tevékenység,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lettes szerv rendelkezé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ltételes kategorizálás és tervbeállítá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ísérletek beindítás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mintaimport, licencvásárlás elemz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piackutatás, piaci információk elemzé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operációs új gyártmányok felsorolás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jlesztés ütemter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19720" y="1828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rvcél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Új gyártmány igényének indoklás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rendeltetésének, működésének rövid leírás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 megoldás elv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őbb műszaki jellemző adata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 gyártmány adat-, illetve mutatószámszerű összehasonlítása a konkurens vállalatok megfelelő gyártmányaiv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prototípusának és sorozatgyártmányának becsült önköltség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hozzávetőleges gazdasági mutató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lszerszámozás előrelátható költsége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rvcél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új gyártmány bevezetésének előfeltétele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utalás jelentősebb import-, anyag-, félkész-, és készárú szükségletr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hivatkozás a rendelkezésre álló vagy beszerzendő segédeszközökre, dokumentációkr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ő felhasználók nyilatkozat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bevezetés ütemezése, határidő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19720" y="2743200"/>
            <a:ext cx="3808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űszaki terv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 konstrukció kialakításával kapcsolatosan szükséges kísérletek, minták, modellek elkészítésének ütemezé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új gyártmány fő összeállítási, vázlatrajzai a szükséges főbb leírásokkal, műszaki számításokk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új gyártmány pontosított műszaki és gazdasági mutatószámai,  és ezek értékelése; az önköltség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gyes már bevált, gyártás alatt lévő gépek olyan alkatrészeinek ismertetése, amelyek az új gyártmányhoz felhasználhatók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pontosított rögzítése annak, hogy az új gyártmány bevezetése milyen további gyártmány(ok) kifejlesztését tesz szükségessé;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űszaki terv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nyagszükségleti kimutatás:                                                   belföldi és import áru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;                                                                                     bel- és külföldi előírások, szabványok, szabályzatok, újítások, találmányok, külső dokumentációk,licence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új gyártmány kivitelezéséhez szükséges különleges és nehezen beszerezhető anyagok, berendezések, mérőeszközök jegyzéke, azok beszerzési helye, és hozzávetőleges költsé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prototípus (kísérleti) darab felülvizsgálatának, kísérletezésének, kipróbálásának, üzemeltetésének, értékelésének módja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 fejlesztésben kooperáló főbb szervezetek és a gyártásban illetékes vállalatok felsorolása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űszaki terv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Ajánlott irodal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rplán 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Z.: Kiemelkedő közös műszaki és fejlődési irányok és azok érvényesítése a gépkonstrukciók kialakításában. GTE „Géptervezők III. Országos Szemináriuma” anyaga. Miskolc, 1977. A11-A24.Gépelemek Tanszékének Közleményei. Miskolc, 1977. 373. s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Jászai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S.: A konstrukció készítésének gyakorlati módszerei. Gépelemek Tanszékének Közleményei. Miskolc, 1976. 351.s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Szedlacsek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J.: A gyártmányfejlesztés folyamata. Gépelemek Tanszékének Közleményei. Miskolc, 1976. 359.sz. Technológiai Transzfer Menedzsment, ME Gépészmérnöki Kar. Miskolc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Varró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Gy.: A kutatás fejlesztés során keletkezett eszközök vagyonjogi rendezése. A Gépelemek Tanszékének Közleményei, Miskolc, 1976. 356. s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Az ipari parkok innovációs szolgáltatásait segítő intézmény- és informatikai hátterének kidolgozása. Magyar Innovációs Szövetség, Budapest.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Gazda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I. – 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Kövesdi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D. –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 Vida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S: Találmányok, szabadalmak. Közgazdasági és Jogi Könyvkiadó, Budapest.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brovszky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J. –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Iványi I. – 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Vékás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G.: Útmutató feltalálóknak. Országos Találmányi Hivatal, Budapest.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Útmutató védjegy és mintaoltalmi ügyben. Budapest.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Bauer 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A – 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Berács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J.: Marketing. Aula Kiadó, Budapest. 19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Vágási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M.: Újtermék-marketing. Nemzeti Tankönyvkiadó. Bp.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Reketve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G.: Értékteremtés a marketingen. Közgazdasági és Jogi Kiadó, Bp. 199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19720" y="3657600"/>
            <a:ext cx="3808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K – kísérleti gyártáshoz szükséges dokumentáció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Összeállítási rajzok, vázlatos részletrajzok, amelyek alapján a kísérleti darab elkészülh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ámítások, előzetes darabjegyz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megmunkálások irányelv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kísérleti darab vizsgálatának, bemérésének, értékelésének mód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19720" y="4495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P- prototípusgyártás dokumentáció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kísérleti darab értékelésének elem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Összeállítási és kidolgozott részletrajz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ámítások, darabjegyz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yártástechnológiai és szerelési utasít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rototípus vizsgálati előírások, (vizsgálati ütemterv), kiértékelés módja, a tartós üzemi próba helyének kijelö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419720" y="5410080"/>
            <a:ext cx="38088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0 - sorozat gyártási dokumentáció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prototípus gyártásával, üzemeltetésével nyert tapasztalatok értéke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tdolgozott összeállítási és részletrajzok (0) (első átdolgoz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ámítások, darabjegyz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észletes technológiai, átvételi és ellenőrzési utasít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észülékek, szerszámok jegyzéke és rajz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419720" y="5943600"/>
            <a:ext cx="3808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 – sorozatgyártás dokumentáció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0-sorozat gyártási és üzemeltetési tapasztalatainak értéke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Összeállítási és részletrajzok (S) (második átdolgoz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ámítások és darabjegyz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észletes technológiai utasítások, anyag és időnorm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űrésláncok előír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yártmányismertető (katalógus) szabvány sze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ótalkatrészek jegyzé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űködési, üzemeltetési, karbantartási utasítások, javítási, hibaelhárítási előírások - GÉPKÖNY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 – sorozatgyártás dokumentáció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tvételi feltételek, mérőlapok, minősítési okmányok (származás-igazolás, műbizonylat, stb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iztonságtechnikai előírások, biztonságtechnikai tanúsítvá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árolási, csomagolási, szállítási előírások (kontinentális, trópusi, stb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sorozatgyártmány előkalkuláci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xportképességi nyilatkozat, bizonyítvá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zhasznú cikkek, ill. villamos cikkek esetén a megfelelő hatósági bizonylatok és tanúsítvány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ermék, 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1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60" y="6578640"/>
            <a:ext cx="29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781360" y="709560"/>
            <a:ext cx="36972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antárgy követelményei és a félévvégi aláírás feltételei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árgy lezárásának módja: 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aláírás, gyakorlati jegy vagy vizs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félév elismerésének (az aláírás megszerzésének) feltétele a kötelező foglalkozásokon való folyamatos aktív részvétel, az előírt feladat határidőre történő beadása és prezentációja minimum elégséges szi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félév értékelése ötfokozatú minősítéssel történik egy írásbeli és szóbeli beszámoló vagy vizsga letétele után, és az értékelésbe beszámítjuk az évközi munkát is kb. 40%-k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onstrukciós feladatok a gyártmányfejlesztés folyamatá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2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67160" y="700200"/>
            <a:ext cx="41320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onstrukciós részlegek vállalaton kívüli és váll. belüli kapcsolat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3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36264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ermékfejlesztési rendszer időbeli szakasz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4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407120" cy="5638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869080" y="1295280"/>
            <a:ext cx="2590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.  Szellemi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I. Fizikai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71600" y="4495680"/>
            <a:ext cx="31219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1. Tervezési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2. Konstrukciós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3. Termelési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5880" y="25909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ermékfejlesztési rendszer lefoly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5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425592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66680"/>
            <a:ext cx="914400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VEZETŐ TERVEZŐ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Műszaki ter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inematikai váz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Vezető-tervezői váz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kciós csoportjegyz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TERVEZŐ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Csoport összeállítási rajz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Darabjegyzék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SZERKESZTŐ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Részletezések (alkatrészrajzok, műhelyrajz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ELLENŐRÖ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llenőrzés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SŐ FÁZ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csoport összeállítási rajzokból a teljes (fő) összeállítási rajz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készítése (Vezető szerkesztő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28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 KONSTRUKCIÓKÉSZÍTÉS MÓDSZERTA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286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 KONSTRUKCIÓVAL SZEMBEN TÁMASZTOTT KÖVETELMÉNY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unkció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Üzembiztosság, megbízható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ljesítmény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is helyig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yártható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erelhető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arbantarthatóság, javítható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iztonságtechnikai 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Célszerű forma,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nyagválasztási 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azdaságos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llenőrizhető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melhetőségi, szállítási, csomagolási 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cyclálható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konstrukciót befolyásoló tényező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6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852560" y="843120"/>
            <a:ext cx="553896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konstrukciós folya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7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462040" y="719280"/>
            <a:ext cx="43056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„konstrukció - gyártás - felhasználás” információ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ör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8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105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konstrukció és a recycling kölcsönhatása a termék-rendsze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9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2476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2286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883908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4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GÉ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KONSTRUOLÓG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kci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á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ktő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GÉPKONSTRUKCI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TERM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GÉPIPARI TERM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lkatrés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Gépe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Szerkezeti egység (gépszerkeze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Gé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észül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Berendez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Létesítmé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20" y="6583320"/>
            <a:ext cx="37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-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épipari termék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43000" y="942840"/>
            <a:ext cx="6705720" cy="5289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2485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720" y="6600960"/>
            <a:ext cx="348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Készítette: Dr. Siposs István - Kövesi Levente-Bihari Já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43200" y="2286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38080"/>
            <a:ext cx="883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FEJLESZ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fejlesztés szintje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emzetgazdasá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gaz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Válla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9528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azdaság fejlesztési terület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933480"/>
            <a:ext cx="8839440" cy="523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2:23:30Z</dcterms:created>
  <dc:creator>Dr. Kövesi Gyula</dc:creator>
  <dc:description/>
  <dc:language>en-US</dc:language>
  <cp:lastModifiedBy>DömeDee</cp:lastModifiedBy>
  <dcterms:modified xsi:type="dcterms:W3CDTF">2007-03-27T10:12:29Z</dcterms:modified>
  <cp:revision>421</cp:revision>
  <dc:subject/>
  <dc:title>Sogszögképző mechanizmusok geometriai és kinematikai modelljei</dc:title>
</cp:coreProperties>
</file>