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EC1-DD51-4DB8-BCD3-F59EBADD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A67-0363-4F98-89FA-C17FF4B9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A8B-2ACC-449C-AC56-DB6EE62D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4F2-F9F4-4021-A605-F7060D69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B5A-FE65-4E2B-ACC3-4D2C2071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6B5-F753-44B0-A09E-128CC35B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B05-6D8E-4CC8-84F0-31A29417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607-491C-49A2-AEEB-6419EA5C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F53-C957-4CFA-A2E3-BB8B7B92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28B-5A09-46D5-89EB-BB14A735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8B6-CA75-4DCE-93B6-EB084720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A3B-BBC1-4942-A8AB-96F53C28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0842-4916-4C35-A2F2-B21A261F3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technológia transzfer szerepe az innovációs folyamatokb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ógia diffúzi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ógia transz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dás transz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pológiai rendszer a program értékeléséh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9040" y="2030400"/>
          <a:ext cx="7758000" cy="46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30400"/>
                    <a:ext cx="775800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pológiai rendszer a program értékeléséh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9040" y="2055960"/>
          <a:ext cx="7758000" cy="399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55960"/>
                    <a:ext cx="7758000" cy="39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állalati adottságoknak és a program jellegének megfelelő szervezeti forma kialak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lógiai rendszer a program jellegének értékelésé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ervezeti form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ülönböző szervezeti formák célszerű alkalmazási terüle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92280" y="2017800"/>
          <a:ext cx="7751520" cy="40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017800"/>
                    <a:ext cx="775152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ülönböző szervezeti formák célszerű alkalmazási terüle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2021040"/>
          <a:ext cx="7772400" cy="40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7724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ülönböző szervezeti formák célszerű alkalmazási terüle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2021040"/>
          <a:ext cx="7772400" cy="40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7724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ülönböző szervezeti formák célszerű alkalmazási terüle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9040" y="2030400"/>
          <a:ext cx="7707240" cy="397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30400"/>
                    <a:ext cx="770724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ülönböző szervezeti formák célszerű alkalmazási terüle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2021040"/>
          <a:ext cx="7772400" cy="40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7724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állalat adottság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lógiai rends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ervezeti form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z innovációs és technológiai transzfer hálózatok struktúrái, szervezeti eleme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technológia transzfer formá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+F együttműködés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yártási együttműködés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ing és szervízelési együttműködés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kált irodalom közvetít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zemélyes tapasztalatok átvét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ásolással megvalósuló technológia transzf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özös K+F -fel és gyártással megvalósuló technológia transzf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nnovációs terek céljai, felada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innovációs folyamat felkarolása infrastrukturális és szolgáltatási feltételek biztosításá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ghatározó szerep a térség műszaki fejlesztésében, a regionális szerkezet-átalakításb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nkahely-teremtés elősegít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égió oktatási, továbbképzési centrumainak létrehozása, működtet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talizátor szerep a technológia transzferb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nnovációs terek szervezeti formá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ovációs központok, transzfer irod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kubátorház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ógiai központ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üzleti és innovációs központ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k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z ipari park definíció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yan telepszerűen létesített ipari 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zolgáltató létesítmények együttese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ly kis és közepes méretű vállalkozáso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zámára a kor színvonalán képes biztosítani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rszerű gyártmányok előállításához, mod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ológiák alkalmazásához szüksé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ltételek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pari parkok jellemző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ületileg behatárolt ingatlanon infrastruktúrával és szolgáltatásokkal kedvező feltételeket biztosítanak a betelepülő vállalkozásn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ősorban korszerű termelő és / vagy szolgáltató tevékenységet folytató kis- és középvállalkozásokat támogatn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zai és külföldi tőke bevonásával olyan innovációt valósítanak meg, ami elősegíti az infrastruktúraváltá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őnyben részesítik az exportorientált termelést növelő, késztermékgyártó és beszállító vállalkozások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pari parkok jellemző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ősegítik a munkanélküliség csökkentésé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hetővé teszik a helyi erőforrások mobilizálását, a régióban rejlő adottságok kiaknázás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ítik a hazai szellemi tőke bevonását, az új kutatási eredmények hasznosítás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arkok felépít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2514600"/>
            <a:ext cx="2819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419720"/>
            <a:ext cx="1828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zolgáltatá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yújt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zervez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4419720"/>
            <a:ext cx="1828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elepülő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állalkoz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2880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86728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828800" y="3962520"/>
            <a:ext cx="403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962520" y="3505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pari parkok típusa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elepítés jellege szer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öldmező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konstrukció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pari parkok típusa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kitűzött célok szer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szió orientá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úzió orientá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echnológia transzfer forrás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zai saját K+F eredmények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edmények nemzetközi együttműködés keretében való átvét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yéni, vagy alkalmi újítók új gyártmányainak alkalmazásba véte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nnovációs folyamat kulcsszereplő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8200" y="2055960"/>
          <a:ext cx="7709040" cy="399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2055960"/>
                    <a:ext cx="7709040" cy="39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novációs stáb tagj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905120"/>
            <a:ext cx="167652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ezérigazgat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743200"/>
            <a:ext cx="129564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jek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rányít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819520"/>
            <a:ext cx="22860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unkcionális vezető(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733920"/>
            <a:ext cx="541008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733920"/>
            <a:ext cx="144756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”progra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rojek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ordiná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3733920"/>
            <a:ext cx="129528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észfelada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grambó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733920"/>
            <a:ext cx="266724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kor? (lebonyolítási progra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4419720"/>
            <a:ext cx="26672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nnyi? (pénzügyi ter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638680"/>
            <a:ext cx="160020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émafelelő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5638680"/>
            <a:ext cx="160020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émafelelő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257800"/>
            <a:ext cx="16002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eam-tag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24200" y="312408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lyik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rioritáso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09640" y="3110040"/>
            <a:ext cx="152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t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gramtervez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86240" y="3186000"/>
            <a:ext cx="9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gyan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vel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63640" y="51674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133720" y="4876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809880" y="540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541008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5410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33720" y="2590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590920"/>
            <a:ext cx="487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2590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69608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543800" y="3124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3276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3276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6019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6019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3352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6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54100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5105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agok feladatai, illetve tevékenysé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koordiná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kcionális vezet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kt irányí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émafelelő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71800" y="228600"/>
            <a:ext cx="243828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vállalkozás megújításána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ervez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1066680"/>
            <a:ext cx="24382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 innováció megtárgyalá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és meghatározá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981080"/>
            <a:ext cx="24382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tervezet életképességén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gítélé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438280"/>
            <a:ext cx="198144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reskedelm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kalmassá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iac felmérése, verse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rketing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mmunikáci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438280"/>
            <a:ext cx="198108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gvalósíthatóság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állalkozáson belü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űszaki, termelési esz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özök, alkalmazottak 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ösztönző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3733920"/>
            <a:ext cx="22096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űszaki felülvizsgál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szabadalmak, előírások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zabványo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4724280"/>
            <a:ext cx="22096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Üzleti ter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 tartalommegfogalmazá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énzügyi terv, szaktudás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apcsolatok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5867280"/>
            <a:ext cx="22860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EJLESZTÉS MEGKEZDÉ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NÁCSADÁ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YOMONKÖVET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7621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15238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243828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057400" y="2133720"/>
            <a:ext cx="91440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0574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4956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5562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01040" y="4876920"/>
            <a:ext cx="305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Meglévő kis és középvállalkozás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fejlesztési folyam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állalati adottságoknak és a program jellegének megfelelő szervezeti forma kialak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lógiai rendszer a program jellegének értékelésé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lógiai rendszer a program értékeléséh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9040" y="1979640"/>
          <a:ext cx="7645320" cy="393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79640"/>
                    <a:ext cx="7645320" cy="39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2:34:02Z</dcterms:created>
  <dc:creator>mad</dc:creator>
  <dc:description/>
  <dc:language>en-US</dc:language>
  <cp:lastModifiedBy>mad</cp:lastModifiedBy>
  <dcterms:modified xsi:type="dcterms:W3CDTF">2004-10-06T17:54:51Z</dcterms:modified>
  <cp:revision>25</cp:revision>
  <dc:subject/>
  <dc:title>A technológia transzfer szerepe az innovációs folyamatokban</dc:title>
</cp:coreProperties>
</file>