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82F-6900-4660-B508-54C185A6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EB2-80F4-4008-8981-80751331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D18-D923-4DA4-9E22-C9537811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966-8AEF-4564-8947-940E747F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24C-B7BF-4C31-A77C-3F7C4061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F62-557E-4312-A32F-066BBA83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D51-E8E9-4133-9FC0-BC20F4CE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7B0-94A5-4947-964F-CD71A264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813-C08F-4C51-BBDB-FABC433D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040-EFDF-4CFA-B8C6-524F97E2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770-8F91-4B17-8CBA-04EB70A4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37C-4E42-4EA3-B31D-3C783C5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6C07-5415-4D43-832C-DDFABBD67526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megbízhatóság szerepe a terméktervezésben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gbízhatóság fogalm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nak a valószínűsége, hogy egy elem vagy rendszer teljesíti-e a feladatát élettartama adott időpontjáig (Neumann Ján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 termék azon képessége, hogy meghatározott feltételek mellett előírt funkcióit teljesíti-e, miközben előírásos állapotú ma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Kapcsolatuk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1 Független (elsődleg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 Függő (másodlago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Üzemeltetés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 Korai meghibásodás (a bejáratás szakaszáb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2 Üzemi meghibásodás (üzemeltetési szakaszb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3 Elhasználódás (a tönkremenetel – öregedés szakaszáb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Mérték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1 Részeleges meghibásodás (egyes funkció elvesztése, hatékonyság csökkené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2 Teljes meghibásodás (összes funkció elvesztése, működésképtelensé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Folyamata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1 Váratlan meghibásod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2 Degradációs meghibásodás (fokozatos, figyelemmel kísérhető, pl. rezgések, zaj fokozódása, stb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áratlan és teljes meghibásodásokat katasztrofális meghibásodásnak nevezzü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életlen esemény értéke nem állandó, esetről esetre más lehet, de meghatározható, hogy az értékük milyen valószínűséggel esik a megadott határok köz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eket a véletlen eseményeket leíró mennyiségeket valószínűségi változóknak nevezzük, és görög betűkkel jelöljük. (pl. ξ,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ζ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ή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alószínűségi változók aktuális értékeit pedig latin betűkkel jelöljük (pl. x,y,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ξ valószínűségi változó jellemezhető egy F(x) eloszlásfüggvénnyel, amely megadja annak a valószínűségét, hogy ξ&lt;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(ξ&lt;x) = F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áreset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-∞)=0 (lehetetl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+∞)=1 (bizt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ξ csa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zkrét értékeket vehet fel, az eloszlásfüggvény lépcsőzetes, az eloszlás diszkré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24360" y="3645000"/>
            <a:ext cx="40384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lytonosnak nevezzük a valószínűségi változót, ha eloszlásfüggvénye előállítható egy másik függvény integráljaké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(x)= ∫</a:t>
            </a:r>
            <a:r>
              <a:rPr b="0" lang="hu-HU" sz="3200" spc="-1" strike="noStrike" baseline="38000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Arial"/>
              </a:rPr>
              <a:t>-∞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(x)d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f(x) függvény az eloszlás un. sűrűségfüggvénye. Pl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0384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gbízhatóság tárgykö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gyan lehet ismert megbízhatóságú elemekből felépített rendszer megbízhatóságát meghatározni, számszerűen értékel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et-e ugyanezen elemek más csoportosításával a korábbinál megbízhatóbb rendszert teremten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et-e adott feladatra optimális megbízhatóságú rendszert teremten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et-e közbenső karbantartási műveletekkel a megbízhatóságot fokozni, mi ennek a leggazdaságosabb módja, időpontja, st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lőző sűrűségfüggvényhez tartozó eloszlásfüggv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0384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űrűségfüggvény nulladrendű általános momentuma a sűrűségfüggvény görbe alatti területét jelenti, ez mindig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normálás felté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561636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űrűségfüggvény elsőrendű általános momentuma, a súlypontjának koordinátája a várható ért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6696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n-ed rendű általános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6769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210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térés: x-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entrális momentum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7489800" cy="244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87640" y="1700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zetes a másodrendű centrális moment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696360" cy="180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60200" y="416880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diszperz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négyzetes középeltérés, vagy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szórá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=√D(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ξ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2852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hibásodások eloszlá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038840" cy="109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050920" y="3716280"/>
            <a:ext cx="4033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hibásodások gyakoriság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113080" cy="1150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35280" y="3716280"/>
            <a:ext cx="5113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bamentes működés valószínűsége (megbízhatóság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4967640" cy="83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496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gbízhatóság elmélet a valószínűség elmélet alkalmazása technikai feladatokra, módszere a matematikai statisz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hibásodási tényező (meghibásodási ráta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03884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4932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tlagos tényleges működés ide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árható érték, elsőrendű általános momentum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7632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sodrendű általános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785952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sodrendű centrális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iszperzió, szórásnégyze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763272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szór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=√</a:t>
            </a:r>
            <a:r>
              <a:rPr b="0" lang="el-GR" sz="3200" spc="-1" strike="noStrike">
                <a:solidFill>
                  <a:srgbClr val="ffffff"/>
                </a:solidFill>
                <a:latin typeface="MS Mincho"/>
                <a:ea typeface="MS Mincho"/>
              </a:rPr>
              <a:t>μ</a:t>
            </a:r>
            <a:r>
              <a:rPr b="0" lang="hu-HU" sz="3200" spc="-1" strike="noStrike" baseline="-25000">
                <a:solidFill>
                  <a:srgbClr val="ffffff"/>
                </a:solidFill>
                <a:latin typeface="Century"/>
              </a:rPr>
              <a:t>2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= D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85264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ghibásodási jellemzők, megbízhatósági kritériumok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entury"/>
              </a:rPr>
              <a:t>γ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-kvanti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t</a:t>
            </a:r>
            <a:r>
              <a:rPr b="0" lang="el-GR" sz="3200" spc="-1" strike="noStrike" baseline="-18000">
                <a:solidFill>
                  <a:srgbClr val="ffffff"/>
                </a:solidFill>
                <a:latin typeface="Century"/>
              </a:rPr>
              <a:t>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R(t</a:t>
            </a:r>
            <a:r>
              <a:rPr b="0" lang="el-GR" sz="3200" spc="-1" strike="noStrike" baseline="-18000">
                <a:solidFill>
                  <a:srgbClr val="ffffff"/>
                </a:solidFill>
                <a:latin typeface="Century"/>
              </a:rPr>
              <a:t>γ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)= </a:t>
            </a:r>
            <a:r>
              <a:rPr b="0" lang="el-GR" sz="3200" spc="-1" strike="noStrike">
                <a:solidFill>
                  <a:srgbClr val="ffffff"/>
                </a:solidFill>
                <a:latin typeface="Century"/>
              </a:rPr>
              <a:t>γ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[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%</a:t>
            </a: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]</a:t>
            </a:r>
            <a:r>
              <a:rPr b="0" lang="hu-HU" sz="3200" spc="-1" strike="noStrike">
                <a:solidFill>
                  <a:srgbClr val="ffffff"/>
                </a:solidFill>
                <a:latin typeface="Century"/>
              </a:rPr>
              <a:t>/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lemek megbízhatóság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: további részekre történő felbontása a megbízhatóság szempontjából már nem lehetsé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68560" y="6397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22760" y="16956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m felújít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5640" y="181944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lújít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292428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onnal felúj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2852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ámottevő felújítási idejű e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4880" y="3645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újítási függvé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4880" y="43657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újítási intenzi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8880" y="5084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ckáz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3240" y="56610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adék élettart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386064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észenléti tényez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45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cionárius készenléti tényez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268000" y="1052640"/>
            <a:ext cx="86364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1052640"/>
            <a:ext cx="1150920" cy="647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40360" y="2276640"/>
            <a:ext cx="86328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2205000"/>
            <a:ext cx="1150920" cy="647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3284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4076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4724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53737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93080" y="35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4292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522936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564000" y="5013360"/>
            <a:ext cx="1008000" cy="936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55800" y="71280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szerek megbízhatósá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89440" y="16286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162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árhuza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7640" y="17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g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42100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 elem hibája az egész rendszer meghibásodását jel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234936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árhuzamos rends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hibásodása akkor következik be, ha minden eleme meghibásod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3933720"/>
            <a:ext cx="23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egtartalékos redunda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sszív rezerválá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581360"/>
            <a:ext cx="216036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79736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797360"/>
            <a:ext cx="28764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479736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479736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0560" y="4869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869000"/>
            <a:ext cx="14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86900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486900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501336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4869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7640" y="4869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240" y="5659560"/>
            <a:ext cx="21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9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(t) = 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(t)*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(t)*…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(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6720" y="5373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68360" y="522936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515772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558972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9" idx="1"/>
            <a:endCxn id="200" idx="1"/>
          </p:cNvCxnSpPr>
          <p:nvPr/>
        </p:nvCxnSpPr>
        <p:spPr>
          <a:xfrm flipH="1" flipV="1" rot="10800000">
            <a:off x="3924000" y="5266800"/>
            <a:ext cx="2160" cy="43272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02" name=""/>
          <p:cNvCxnSpPr>
            <a:stCxn id="199" idx="3"/>
            <a:endCxn id="200" idx="3"/>
          </p:cNvCxnSpPr>
          <p:nvPr/>
        </p:nvCxnSpPr>
        <p:spPr>
          <a:xfrm>
            <a:off x="4211640" y="5267160"/>
            <a:ext cx="2160" cy="4327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03" name=""/>
          <p:cNvSpPr/>
          <p:nvPr/>
        </p:nvSpPr>
        <p:spPr>
          <a:xfrm flipH="1">
            <a:off x="3347640" y="544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544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950080"/>
            <a:ext cx="71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81640" y="5969160"/>
            <a:ext cx="5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157720"/>
            <a:ext cx="1008000" cy="936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93080" y="5302080"/>
            <a:ext cx="287280" cy="2178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93080" y="5734080"/>
            <a:ext cx="287280" cy="217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8" idx="3"/>
            <a:endCxn id="209" idx="3"/>
          </p:cNvCxnSpPr>
          <p:nvPr/>
        </p:nvCxnSpPr>
        <p:spPr>
          <a:xfrm>
            <a:off x="7380360" y="5411520"/>
            <a:ext cx="2160" cy="43236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11" name=""/>
          <p:cNvSpPr/>
          <p:nvPr/>
        </p:nvSpPr>
        <p:spPr>
          <a:xfrm flipH="1">
            <a:off x="6516360" y="5589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5589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40720" y="6094440"/>
            <a:ext cx="71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49280" y="61135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877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445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558972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7080" y="5805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948360" y="5734080"/>
            <a:ext cx="716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019640" y="580536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763280" y="1125360"/>
            <a:ext cx="25210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1125360"/>
            <a:ext cx="71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1125360"/>
            <a:ext cx="2303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7640" y="1989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198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40360" y="3500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400536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egtartalékos redunda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ktív rezerválá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3500280"/>
            <a:ext cx="2160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3573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7280" y="479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20000" y="4869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32720" y="1989000"/>
            <a:ext cx="21564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4000" y="22240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pfogalm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mény: meghatározott feltételek mellet megvalósított kísérlet mennyiségi vagy minőségi eredménye. (pl. valamilyen szilárdsági jellemző meghatározott tartományba esi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ztos esemény: ha elkerülhetetlenül bekövetkezik. (pl. ha valaki élve születik, elkerülhetetlenül meg is h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hetetlen esemény: ha bekövetkezése kizárt. (pl. egy egyetlen fekete golyót tartalmazó halmazból kettőt kihúz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ükségszerűség: biztos és lehetetlen események halm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letlen esemény: mely adott feltételkomplexum mellett be is következhet, és nem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életlen: a szükségszerűség velejárója, minden, ami nem szükségszer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ószínűség elmélet: a véletlen esemény objektív bekövetkezésének valószínűségével foglalkozi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matikai statisztika: a véletlen események tömeges megfigyelése eredményeképpen kapott adatok feldolgozását szolgál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valószínűség-elmélet módszere a matematikai statiszt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59280" y="404640"/>
            <a:ext cx="2808000" cy="648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é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700280"/>
            <a:ext cx="244800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ő elem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1700280"/>
            <a:ext cx="223200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árulékos elem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852640"/>
            <a:ext cx="1728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űködőké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2852640"/>
            <a:ext cx="187164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űködésképt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852640"/>
            <a:ext cx="1728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érü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2852640"/>
            <a:ext cx="1728720" cy="649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őírá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4292640"/>
            <a:ext cx="244800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hibásod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4292640"/>
            <a:ext cx="244800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érü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5589720"/>
            <a:ext cx="3095640" cy="6490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őírásos állapot elvesz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19280" y="1052640"/>
            <a:ext cx="266544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1052640"/>
            <a:ext cx="215892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115640" y="2349360"/>
            <a:ext cx="431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2349360"/>
            <a:ext cx="504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940360" y="2349360"/>
            <a:ext cx="432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508360" y="5084640"/>
            <a:ext cx="4316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2349360"/>
            <a:ext cx="504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5013360"/>
            <a:ext cx="5047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3500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3500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meghibásodások osztályozás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Forrásuk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1 Tervezési meghibásodás (~75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2 Gyártási meghibásodás (~16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3 Üzemeltetési meghibásodás (~9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meghibásodások osztályozás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egjelenés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1 Szisztemati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2 Vélet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2:51:44Z</dcterms:created>
  <dc:creator>mad</dc:creator>
  <dc:description/>
  <dc:language>en-US</dc:language>
  <cp:lastModifiedBy>DömeDee</cp:lastModifiedBy>
  <dcterms:modified xsi:type="dcterms:W3CDTF">2007-03-27T10:14:08Z</dcterms:modified>
  <cp:revision>48</cp:revision>
  <dc:subject/>
  <dc:title>A megbízhatóság szerepe a terméktervezésben</dc:title>
</cp:coreProperties>
</file>