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SUHINT.WAV" ContentType="audio/x-wav"/>
  <Override PartName="/ppt/media/image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1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C22E-DEBE-4AB1-823D-12B2D160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77BA-F630-4CE0-A616-D9FD424F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2E82-0889-45D6-97DA-A1FD5370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360E-2D5F-4BC5-8AE6-EB24C6C0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A18-CDEE-4DF0-A5D3-54439A3C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D963-53F2-4E8F-B083-F462A033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4667-C427-474A-AA03-9B3669BE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B6F5-4898-4081-A026-49DCFBF6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DA36-C85A-4B1E-B947-90CEA1D9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6C45-DCE0-4BB1-8143-B5A8C476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8DE9-CF14-480E-9D3B-4AFF3339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BBF3-BB21-48D0-A664-7C73AAB8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C897-8358-4078-894B-4FBD318DD032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SUHINT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654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rmékfejlesztés alapj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28920" y="6183360"/>
            <a:ext cx="76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Misko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00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04920" y="228600"/>
          <a:ext cx="1066680" cy="9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106668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295280" y="228600"/>
            <a:ext cx="1981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MISKOLCI EGYE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Gépészmérnöki K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Gépelemek Tanszé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971800"/>
            <a:ext cx="83059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Tárgyelőadó: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Dr. Siposs Istvá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gyetemi docens, ME Gépelemek Tanszé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Tárgyfelelős: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Bihari Já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tanársegéd, ME Gépelemek Tanszé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743200" y="2286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ALAPFOGALMA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838080"/>
            <a:ext cx="8839080" cy="54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FEJLESZT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MŰSZAKI FEJLESZT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KUTATÁS - FEJLESZT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Célja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Feladata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Tevékenység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Szakasza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Értékelé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VÁLLALATI ÁLTALÁNOS TERMELÉSI ÉS FEJLESZTÉSI TEVÉKENYSÉ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Előkészítő tevékenysé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Termelési tevékenysé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Termelést követő tevékenysé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3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3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8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3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8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3" dur="5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8" dur="500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773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FEJLESZTÉSI IG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2286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ALAPFOGALMA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60" y="6578640"/>
            <a:ext cx="385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295280" y="228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gyértelmű fejlesztési ig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3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3554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Alapfogalma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FEJLESZTÉSI IGÉ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ŰSZAKI FEJLESZTÉSI TER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Vállalatfejlesz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Gyártásfejlesz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Gyártmányfejlesz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95280" y="228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műszaki fejlesztés tervezésének folya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4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362320" y="762120"/>
            <a:ext cx="4481280" cy="5562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2286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gyártmányfejlesztés folyamata egyedi termék előállítása eseté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5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924280" y="1066680"/>
            <a:ext cx="3297240" cy="518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22860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gyártmányfejlesztés folyamata általános jellegű gyártmány eseté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6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3657600" cy="5145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gyedileg gyártott termék fejlesztési munkafázis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7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700360" y="709560"/>
            <a:ext cx="3863880" cy="5614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Sorozatban gyártott termék fejlesztési munkafázis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8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666880" y="685800"/>
            <a:ext cx="3992760" cy="5638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066680"/>
            <a:ext cx="914400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I.</a:t>
            </a: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FEJLESZTÉSI SZAKAS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Tanulmány készít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Tervcél készít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Műszaki terv készít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Konstrukció elkészíté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Prototípus gyárt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II.</a:t>
            </a: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BEVEZETÉSI SZAKAS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u-HU" sz="18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-sorozat gyártá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Gyártástechnológia értékelé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Sorozatgyártás előkészíté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Átvételi, minősítési utasítások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Befejező fáz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Tervezői művezet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86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A GYÁRTMÁNYFEJLESZTÉSI FOLYAMAT SZAKASZA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160020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2819520"/>
            <a:ext cx="152280" cy="2590560"/>
          </a:xfrm>
          <a:custGeom>
            <a:avLst/>
            <a:gdLst>
              <a:gd name="textAreaLeft" fmla="*/ 0 w 152280"/>
              <a:gd name="textAreaRight" fmla="*/ 55080 w 15228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8560" y="1905120"/>
            <a:ext cx="195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Előkészítő fáz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74000" y="4114800"/>
            <a:ext cx="217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Kidolgozás fázi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563868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Termékfejlesztés alapjai c. tárgy ütemte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Bevezetés. Alapfogalm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termékfejlesztés folyam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konstrukciókészítés folyam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z innováció folyam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technológia transzfer folyamatok struktúrá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technológia transzfer folyamatok finanszírozási kérdés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z innovációs folyamat kísérő jelenség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marketing szerepe a termékfejlesztés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minőség szerepe a termékfejlesztés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minőségbiztosítás szabvány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recycling szempontjából helyes tervez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 pályázatkészítés szerepe a termékfejlesztés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Esettanulmány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Esettanulmány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onstrukciós tevékenység elvi folya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9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7400" y="685800"/>
            <a:ext cx="4950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Gyártmányfejlesztés konstrukciós folya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0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38360" y="690480"/>
            <a:ext cx="4184640" cy="5634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19720" y="9144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Tervtanulmány tartalmi tagozód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Új gyártmány kezdeményezése;                                  igénybejelentés külső szerv részéről,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 vállalat feladatköréből eredő folyamatos tevékenység,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felettes szerv rendelkezé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Feltételes kategorizálás és tervbeállítá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kísérletek beindítás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mintaimport, licencvásárlás elemzé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piackutatás, piaci információk elemzé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kooperációs új gyártmányok felsorolás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fejlesztés ütemterv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Gyártmányfejlesztés konstrukciós folya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0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38360" y="690480"/>
            <a:ext cx="4184640" cy="5634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419720" y="18288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Tervcél tartalmi tagozód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Új gyártmány igényének indoklás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rendeltetésének, működésének rövid leírás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a megoldás elv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főbb műszaki jellemző adata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a gyártmány adat-, illetve mutatószámszerű összehasonlítása a konkurens vállalatok megfelelő gyártmányaiva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prototípusának és sorozatgyártmányának becsült önköltség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hozzávetőleges gazdasági mutató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felszerszámozás előrelátható költsége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Tervcél tartalmi tagozód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az új gyártmány bevezetésének előfeltétele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utalás jelentősebb import-, anyag-, félkész-, és készárú szükségletr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hivatkozás a rendelkezésre álló vagy beszerzendő segédeszközökre, dokumentációkr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fő felhasználók nyilatkozat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bevezetés ütemezése, határidő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Gyártmányfejlesztés konstrukciós folya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0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38360" y="690480"/>
            <a:ext cx="4184640" cy="5634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19720" y="2743200"/>
            <a:ext cx="380880" cy="380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Műszaki terv tartalmi tagozód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A konstrukció kialakításával kapcsolatosan szükséges kísérletek, minták, modellek elkészítésének ütemezés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az új gyártmány fő összeállítási, vázlatrajzai a szükséges főbb leírásokkal, műszaki számításokka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az új gyártmány pontosított műszaki és gazdasági mutatószámai,  és ezek értékelése; az önköltség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egyes már bevált, gyártás alatt lévő gépek olyan alkatrészeinek ismertetése, amelyek az új gyártmányhoz felhasználhatók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pontosított rögzítése annak, hogy az új gyártmány bevezetése milyen további gyártmány(ok) kifejlesztését tesz szükségessé;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Műszaki terv tartalmi tagozód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Anyagszükségleti kimutatás:                                                   belföldi és import áru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;                                                                                     bel- és külföldi előírások, szabványok, szabályzatok, újítások, találmányok, külső dokumentációk,licence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z új gyártmány kivitelezéséhez szükséges különleges és nehezen beszerezhető anyagok, berendezések, mérőeszközök jegyzéke, azok beszerzési helye, és hozzávetőleges költsé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prototípus (kísérleti) darab felülvizsgálatának, kísérletezésének, kipróbálásának, üzemeltetésének, értékelésének módja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a fejlesztésben kooperáló főbb szervezetek és a gyártásban illetékes vállalatok felsorolása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Műszaki terv tartalmi tagozód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ff"/>
                </a:solidFill>
                <a:latin typeface="Times New Roman"/>
              </a:rPr>
              <a:t>Ajánlott irodal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Terplán 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Z.: Kiemelkedő közös műszaki és fejlődési irányok és azok érvényesítése a gépkonstrukciók kialakításában. GTE „Géptervezők III. Országos Szemináriuma” anyaga. Miskolc, 1977. A11-A24.Gépelemek Tanszékének Közleményei. Miskolc, 1977. 373. s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Jászai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 S.: A konstrukció készítésének gyakorlati módszerei. Gépelemek Tanszékének Közleményei. Miskolc, 1976. 351.s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Szedlacsek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 J.: A gyártmányfejlesztés folyamata. Gépelemek Tanszékének Közleményei. Miskolc, 1976. 359.sz. Technológiai Transzfer Menedzsment, ME Gépészmérnöki Kar. Miskolc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Varró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 Gy.: A kutatás fejlesztés során keletkezett eszközök vagyonjogi rendezése. A Gépelemek Tanszékének Közleményei, Miskolc, 1976. 356. s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Az ipari parkok innovációs szolgáltatásait segítő intézmény- és informatikai hátterének kidolgozása. Magyar Innovációs Szövetség, Budapest.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Gazda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 I. – </a:t>
            </a: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Kövesdi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 D. –</a:t>
            </a: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 Vida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 S: Találmányok, szabadalmak. Közgazdasági és Jogi Könyvkiadó, Budapest. 198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Dobrovszky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 J. –</a:t>
            </a: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Iványi I. – </a:t>
            </a: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Vékás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 G.: Útmutató feltalálóknak. Országos Találmányi Hivatal, Budapest. 19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Útmutató védjegy és mintaoltalmi ügyben. Budapest. 199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Bauer 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A – </a:t>
            </a: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Berács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 J.: Marketing. Aula Kiadó, Budapest. 199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Vágási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 M.: Újtermék-marketing. Nemzeti Tankönyvkiadó. Bp.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 u="sng">
                <a:solidFill>
                  <a:srgbClr val="ffffff"/>
                </a:solidFill>
                <a:uFillTx/>
                <a:latin typeface="Times New Roman"/>
              </a:rPr>
              <a:t>Reketve</a:t>
            </a: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 G.: Értékteremtés a marketingen. Közgazdasági és Jogi Kiadó, Bp. 199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Gyártmányfejlesztés konstrukciós folya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0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38360" y="690480"/>
            <a:ext cx="4184640" cy="5634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419720" y="3657600"/>
            <a:ext cx="380880" cy="380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K – kísérleti gyártáshoz szükséges dokumentáció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Összeállítási rajzok, vázlatos részletrajzok, amelyek alapján a kísérleti darab elkészülh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zámítások, előzetes darabjegyzék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megmunkálások irányelv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kísérleti darab vizsgálatának, bemérésének, értékelésének mód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Gyártmányfejlesztés konstrukciós folya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0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38360" y="690480"/>
            <a:ext cx="4184640" cy="5634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419720" y="4495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P- prototípusgyártás dokumentáció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kísérleti darab értékelésének elemz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Összeállítási és kidolgozott részletrajz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zámítások, darabjegyzék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Gyártástechnológiai és szerelési utasítás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Prototípus vizsgálati előírások, (vizsgálati ütemterv), kiértékelés módja, a tartós üzemi próba helyének kijelöl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Gyártmányfejlesztés konstrukciós folya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0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38360" y="690480"/>
            <a:ext cx="4184640" cy="5634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419720" y="5410080"/>
            <a:ext cx="38088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0 - sorozat gyártási dokumentáció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prototípus gyártásával, üzemeltetésével nyert tapasztalatok értékel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Átdolgozott összeállítási és részletrajzok (0) (első átdolgoz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zámítások, darabjegyzék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Részletes technológiai, átvételi és ellenőrzési utasítás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észülékek, szerszámok jegyzéke és rajz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Gyártmányfejlesztés konstrukciós folya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0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38360" y="690480"/>
            <a:ext cx="4184640" cy="5634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419720" y="5943600"/>
            <a:ext cx="380880" cy="380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S – sorozatgyártás dokumentáció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0-sorozat gyártási és üzemeltetési tapasztalatainak értékel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Összeállítási és részletrajzok (S) (második átdolgoz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zámítások és darabjegyzék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Részletes technológiai utasítások, anyag és időnorm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Tűrésláncok előír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Gyártmányismertető (katalógus) szabvány sze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Pótalkatrészek jegyzé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Működési, üzemeltetési, karbantartási utasítások, javítási, hibaelhárítási előírások - GÉPKÖNY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S – sorozatgyártás dokumentáció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Átvételi feltételek, mérőlapok, minősítési okmányok (származás-igazolás, műbizonylat, stb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Biztonságtechnikai előírások, biztonságtechnikai tanúsítvá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Tárolási, csomagolási, szállítási előírások (kontinentális, trópusi, stb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sorozatgyártmány előkalkuláció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xportképességi nyilatkozat, bizonyítvá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özhasznú cikkek, ill. villamos cikkek esetén a megfelelő hatósági bizonylatok és tanúsítvány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termék, gyártmányfejlesztés konstrukciós folya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1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60" y="6578640"/>
            <a:ext cx="29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781360" y="709560"/>
            <a:ext cx="369720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tantárgy követelményei és a félévvégi aláírás feltételei</a:t>
            </a:r>
            <a:r>
              <a:rPr b="0" lang="hu-HU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tárgy lezárásának módja: </a:t>
            </a:r>
            <a:r>
              <a:rPr b="0" lang="hu-HU" sz="2400" spc="-1" strike="noStrike">
                <a:solidFill>
                  <a:srgbClr val="ff0000"/>
                </a:solidFill>
                <a:latin typeface="Times New Roman"/>
              </a:rPr>
              <a:t>aláírás, gyakorlati jegy vagy vizs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félév elismerésének (az aláírás megszerzésének) feltétele a kötelező foglalkozásokon való folyamatos aktív részvétel, az előírt feladat határidőre történő beadása és prezentációja minimum elégséges szin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félév értékelése ötfokozatú minősítéssel történik egy írásbeli és szóbeli beszámoló vagy vizsga letétele után, és az értékelésbe beszámítjuk az évközi munkát is kb. 40%-k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onstrukciós feladatok a gyártmányfejlesztés folyamatá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2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67160" y="700200"/>
            <a:ext cx="413208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onstrukciós részlegek vállalaton kívüli és váll. belüli kapcsolat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3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36264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termékfejlesztési rendszer időbeli szakasz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4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4407120" cy="5638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869080" y="1295280"/>
            <a:ext cx="25902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I.  Szellemi szakas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II. Fizikai szakas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71600" y="4495680"/>
            <a:ext cx="31219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1. Tervezési szakas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2. Konstrukciós szakas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3. Termelési szakas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5880" y="25909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termékfejlesztési rendszer lefoly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5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676520" y="152280"/>
            <a:ext cx="425592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1066680"/>
            <a:ext cx="914400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VEZETŐ TERVEZŐ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Műszaki ter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Kinematikai vázl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Vezető-tervezői vázl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Konstrukciós csoportjegyzé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TERVEZŐ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Csoport összeállítási rajz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Darabjegyzék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SZERKESZTŐ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Részletezések (alkatrészrajzok, műhelyrajzo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ELLENŐRÖ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Ellenőrzés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ÉGSŐ FÁZ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csoport összeállítási rajzokból a teljes (fő) összeállítási rajz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készítése (Vezető szerkesztő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2860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A KONSTRUKCIÓKÉSZÍTÉS MÓDSZERTAN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2286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A KONSTRUKCIÓVAL SZEMBEN TÁMASZTOTT KÖVETELMÉNYE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Funkcióhelyes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Üzembiztosság, megbízhatós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Teljesítményhelyes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is helyig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Gyárthatós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zerelhető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arbantarthatóság, javíthatós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Biztonságtechnikai helyes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Célszerű forma,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nyagválasztási helyes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Gazdaságoss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llenőrizhető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melhetőségi, szállítási, csomagolási helyes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Recyclálhatós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konstrukciót befolyásoló tényező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6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852560" y="843120"/>
            <a:ext cx="553896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konstrukciós folya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7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462040" y="719280"/>
            <a:ext cx="43056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228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„konstrukció - gyártás - felhasználás” információ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örfolya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8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71056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konstrukció és a recycling kölcsönhatása a termék-rendszer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9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2476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43200" y="2286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ALAPFOGALMA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838080"/>
            <a:ext cx="883908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4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GÉ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KONSTRUOLÓG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Konstrukci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Konstruá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Konstruktő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GÉPKONSTRUKCI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TERMÉ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GÉPIPARI TERMÉ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Alkatrés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Gépe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Szerkezeti egység (gépszerkeze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Gé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Készülé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Berendez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ff"/>
                </a:solidFill>
                <a:latin typeface="Times New Roman"/>
              </a:rPr>
              <a:t>Létesítmén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20" y="6583320"/>
            <a:ext cx="37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-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5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5" dur="5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0" dur="5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0" dur="500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5" dur="500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gépipari termék tagozód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143000" y="942840"/>
            <a:ext cx="6705720" cy="5289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624852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720" y="6600960"/>
            <a:ext cx="3484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Készítette: Dr. Siposs István - Kövesi Levente-Bihari Já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43200" y="228600"/>
            <a:ext cx="350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ALAPFOGALMA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838080"/>
            <a:ext cx="883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ff"/>
                </a:solidFill>
                <a:latin typeface="Times New Roman"/>
              </a:rPr>
              <a:t>FEJLESZTÉ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Times New Roman"/>
              </a:rPr>
              <a:t>Alapfogalma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 fejlesztés szintje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Nemzetgazdasá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Ágaz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Vállal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95280" y="228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 gazdaság fejlesztési terület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933480"/>
            <a:ext cx="8839440" cy="5238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312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2. á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60" y="6578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ff"/>
                </a:solidFill>
                <a:latin typeface="Times New Roman"/>
              </a:rPr>
              <a:t>Készítette: Dr. Siposs István - Kövesi Levente – Bihari Já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2:23:30Z</dcterms:created>
  <dc:creator>Dr. Kövesi Gyula</dc:creator>
  <dc:description/>
  <dc:language>en-US</dc:language>
  <cp:lastModifiedBy>DömeDee</cp:lastModifiedBy>
  <dcterms:modified xsi:type="dcterms:W3CDTF">2007-03-27T10:12:29Z</dcterms:modified>
  <cp:revision>421</cp:revision>
  <dc:subject/>
  <dc:title>Sogszögképző mechanizmusok geometriai és kinematikai modelljei</dc:title>
</cp:coreProperties>
</file>